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4.wmf" ContentType="image/x-wmf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6D25-33BC-4FFE-A3A6-089C4259BA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3E34-3577-4945-A41F-034FBCEA18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3AE1-9EAC-46CB-B5BC-31B4A8D8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DDC6-96AE-4616-9AB9-27BE8C40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67BB-7DE7-4B4B-A0CE-6CBD61E4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3E6F-7A97-4632-AA3D-CC884868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44F-2FB0-4B88-838F-2D18816B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72F0-6187-44FE-A77A-639F037C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8850-52A7-4A46-BE48-AEB774AF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DB17-43F1-451D-B66A-9664996E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23CA-3A6B-4BAA-82B2-547B2338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83E-3195-4898-9F12-469092E1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6F8-9D6C-4EFE-BEDE-6E2A935E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2C2E-C90E-434F-9677-9340FB73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86E0-18C9-44F0-888D-9A275BEB7D2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akcr.cz/txt/zemedelske-a-potravinarske-minimum-pro-zelene-teroristy-dnes-o-sobestacnosti" TargetMode="Externa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s://www.seznamzpravy.cz/clanek/audio-podcast-agenda-vzniknou-farmy-ktere-nevypestuji-nic-jen-ziskaji-dotace-varuje-zemedelec-187065" TargetMode="Externa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ospodářská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71640" y="1915920"/>
            <a:ext cx="7200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hDr. Ing. Tomáš Maier, Ph.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.: 224 382 1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ncelář: PEF 3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Kontrolní otáz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Jaké jsou hlavní tři politicko-ekonomické ideologi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Který stát v EU je nejvyspělejší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Který stát v EU je nejméně vyspělý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Kolik obyvatel má EU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Co znamená Schengenský prostor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Co to jsou kompetitivní a nekompetitivní produkty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Co je to merkantelismu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Kdo je předsedou Evropské rady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Který stát aktuálně předsedá EU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1" descr=""/>
          <p:cNvPicPr/>
          <p:nvPr/>
        </p:nvPicPr>
        <p:blipFill>
          <a:blip r:embed="rId1"/>
          <a:stretch/>
        </p:blipFill>
        <p:spPr>
          <a:xfrm>
            <a:off x="635040" y="1309680"/>
            <a:ext cx="77518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rázek 4" descr=""/>
          <p:cNvPicPr/>
          <p:nvPr/>
        </p:nvPicPr>
        <p:blipFill>
          <a:blip r:embed="rId1"/>
          <a:stretch/>
        </p:blipFill>
        <p:spPr>
          <a:xfrm>
            <a:off x="0" y="2428920"/>
            <a:ext cx="9144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rázek 2" descr=""/>
          <p:cNvPicPr/>
          <p:nvPr/>
        </p:nvPicPr>
        <p:blipFill>
          <a:blip r:embed="rId1"/>
          <a:stretch/>
        </p:blipFill>
        <p:spPr>
          <a:xfrm>
            <a:off x="0" y="2003400"/>
            <a:ext cx="9144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ázek 2" descr=""/>
          <p:cNvPicPr/>
          <p:nvPr/>
        </p:nvPicPr>
        <p:blipFill>
          <a:blip r:embed="rId1"/>
          <a:stretch/>
        </p:blipFill>
        <p:spPr>
          <a:xfrm>
            <a:off x="0" y="1300320"/>
            <a:ext cx="9144000" cy="42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kladní poj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lastně znamená politik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is = město, ve starověkém Řecku ale také stát, protože zde byly městské stá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ites = občan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iteia = občanství, a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konom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ikos – d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mos - řá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Hospodář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8560" y="222732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hosti –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 - p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Výsledek obrázku pro stvo&amp;rcaron;ení sv&amp;ecaron;ta b&amp;uring;h"/>
          <p:cNvPicPr/>
          <p:nvPr/>
        </p:nvPicPr>
        <p:blipFill>
          <a:blip r:embed="rId1"/>
          <a:stretch/>
        </p:blipFill>
        <p:spPr>
          <a:xfrm>
            <a:off x="5643720" y="3900600"/>
            <a:ext cx="3500280" cy="210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Výsledek obrázku pro josef lada hospoda rva&amp;ccaron;ka"/>
          <p:cNvPicPr/>
          <p:nvPr/>
        </p:nvPicPr>
        <p:blipFill>
          <a:blip r:embed="rId2"/>
          <a:stretch/>
        </p:blipFill>
        <p:spPr>
          <a:xfrm>
            <a:off x="5052960" y="1125360"/>
            <a:ext cx="410220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Hospodářská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cká (hospodářská) politika má být soustavou pravidel a nástrojů k zajištění blahobytu „obyvatel daného domu“, tedy občanů stá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vůbec nějaké ekonomické politiky zapotřeb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mělo by být v demokratické společnosti veškeré ekonomické rozhodování ponecháno svobodnému rozhodnutí svobodných občanů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Hospodářská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lný t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átem řízená ekonom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Výsledek obrázku pro Neviditelná ruka trhu"/>
          <p:cNvPicPr/>
          <p:nvPr/>
        </p:nvPicPr>
        <p:blipFill>
          <a:blip r:embed="rId1"/>
          <a:stretch/>
        </p:blipFill>
        <p:spPr>
          <a:xfrm>
            <a:off x="3586320" y="3289320"/>
            <a:ext cx="55576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mail: maiert@pef.czu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b: http://home.czu.cz/mai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zultační hodiny letní semestr 2024/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a: 12:30 – 13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is: místo, město, st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domác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odvě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st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vesmí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konom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ikos: d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mos: řá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konomická politi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e soustavou pravidel a nástrojů k zajištění blahobytu „obyvatel daného domu“, tedy občanů státu, a jimi spoluvytvářený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e třeba regulace (politiky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: Ultraliber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ze ho ztotožnit s anarch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O: Státem řízená ekonom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348184"/>
          <p:cNvPicPr/>
          <p:nvPr/>
        </p:nvPicPr>
        <p:blipFill>
          <a:blip r:embed="rId1"/>
          <a:stretch/>
        </p:blipFill>
        <p:spPr>
          <a:xfrm>
            <a:off x="2484360" y="4546440"/>
            <a:ext cx="41036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átem řízená ekonom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opravdu vždy škodliv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náte Lafferovu křivk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eviditelná ruka trh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 znamená, že trh je řízen pouze tržními silami, tedy nabídkou, poptávkou a cen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stliže užitek, tedy především zisk, plynoucí z dané aktivity převyšuje náklady, udělej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stliže náklady převyšují užitek (zisk), nedělej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to je základní pravidlo ekonomického rozhodová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kon nabídky a poptáv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stliže nabídla převyšuje poptávku, ceny klesají, což následně vyvolává pokles nabídky. Samozřejmě to celé platí i inverzn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3348000" y="3213000"/>
            <a:ext cx="43927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ak to ten Smith vlastně naps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í to laskavost řezníka, sládka nebo pekaře, které vděčíme za svůj oběd, ale je to jejich ohled na jejich vlastní zájem. Nespoléháme se na jejich lidskost, ale na jejich sebelásku a nikdy jim nezdůrazňujeme naše potřeby, ale jejich výh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yž se jedinec ze všech sil snaží použít svůj kapitál na podporu domácího průmyslu tak, aby výroba měla co největší hodnotu, pak nutně usiluje o to, aby roční příjmy společnosti byly co nejvyšší. Ovšemže většinou není jeho úmyslem podporovat veřejný zájem a ani neví, nakolik jej podporuje … myslí jen na svůj zisk a v tom, jako v mnohém jiném, jej ved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viditelná ru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aby podporoval cíl, který neměl vůbec v úmys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ohatství národů (177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dam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dam+smith1"/>
          <p:cNvPicPr/>
          <p:nvPr/>
        </p:nvPicPr>
        <p:blipFill>
          <a:blip r:embed="rId1"/>
          <a:stretch/>
        </p:blipFill>
        <p:spPr>
          <a:xfrm>
            <a:off x="4991040" y="1413000"/>
            <a:ext cx="41529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rázek 3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edokonalosti neviditelné ru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ž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požděné reakce „neviditelné ruky trhu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formační asyme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xistence sociálních, kulturních a historických sil - „potřesení neviditelnou rukou trhu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itické a právní síly - „neviditelná noha trhu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dmínky zápoč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cház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ržní selh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http://timenerdworld.files.wordpress.com/2012/08/microsoftlogos.jpg"/>
          <p:cNvPicPr/>
          <p:nvPr/>
        </p:nvPicPr>
        <p:blipFill>
          <a:blip r:embed="rId1"/>
          <a:stretch/>
        </p:blipFill>
        <p:spPr>
          <a:xfrm>
            <a:off x="3348000" y="1341360"/>
            <a:ext cx="33973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 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mikroekonomie-konvergujici-pavucina"/>
          <p:cNvPicPr/>
          <p:nvPr/>
        </p:nvPicPr>
        <p:blipFill>
          <a:blip r:embed="rId1"/>
          <a:stretch/>
        </p:blipFill>
        <p:spPr>
          <a:xfrm>
            <a:off x="826920" y="1268280"/>
            <a:ext cx="72010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nformační asyme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Billboard s Grossem"/>
          <p:cNvPicPr/>
          <p:nvPr/>
        </p:nvPicPr>
        <p:blipFill>
          <a:blip r:embed="rId1"/>
          <a:stretch/>
        </p:blipFill>
        <p:spPr>
          <a:xfrm>
            <a:off x="2268360" y="1538280"/>
            <a:ext cx="4896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třesení neviditelnou rukou tr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35916063416vitCelyZlutomodry610"/>
          <p:cNvPicPr/>
          <p:nvPr/>
        </p:nvPicPr>
        <p:blipFill>
          <a:blip r:embed="rId1"/>
          <a:stretch/>
        </p:blipFill>
        <p:spPr>
          <a:xfrm>
            <a:off x="108000" y="1197000"/>
            <a:ext cx="5810040" cy="529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http://upload.wikimedia.org/wikipedia/en/8/84/Arthur_Melvin_Okun.jpg"/>
          <p:cNvPicPr/>
          <p:nvPr/>
        </p:nvPicPr>
        <p:blipFill>
          <a:blip r:embed="rId2"/>
          <a:stretch/>
        </p:blipFill>
        <p:spPr>
          <a:xfrm>
            <a:off x="6516720" y="1268280"/>
            <a:ext cx="2143080" cy="2467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7021440" y="39337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tur Ok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litické a právní sí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crop-138479-4eba9e2ad1ba1-spravedlnost"/>
          <p:cNvPicPr/>
          <p:nvPr/>
        </p:nvPicPr>
        <p:blipFill>
          <a:blip r:embed="rId1"/>
          <a:stretch/>
        </p:blipFill>
        <p:spPr>
          <a:xfrm>
            <a:off x="324000" y="1341360"/>
            <a:ext cx="5715000" cy="2743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Stephen Magee"/>
          <p:cNvPicPr/>
          <p:nvPr/>
        </p:nvPicPr>
        <p:blipFill>
          <a:blip r:embed="rId2"/>
          <a:stretch/>
        </p:blipFill>
        <p:spPr>
          <a:xfrm>
            <a:off x="6732720" y="3573360"/>
            <a:ext cx="1028520" cy="1371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656748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375600" y="50846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ephen Mag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 volbě ekonomik je nutno definov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ierarchii cí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í aktéry rozhodovacího proce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ý horiz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orovou úrove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tegie a ná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 kontroly a zpětné vaz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Hierarchie cílů ekonomické politi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enské cí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vob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raved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ist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lahoby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 ekonomické poli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konomická svob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pravedlnost rozdělo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spodářská jist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spokojování potř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ravedl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ormální, daná požadavkem formální svo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ztahu k výkonu, tj. odměňování jednotlivců podle výko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rovnosti šancí, podmiňující předchozí požadav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spravedlnosti potřeb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dy alespoň zaručení uspokojení minimálních potřeb každého jednotliv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isto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í smí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spodářská jistota a stabi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stotu zásobování v krizových situac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í jistoty jednotliv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stotu příjmů a majet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stotu plánování pro hospodářské subjek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lahoby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stavuje uspokojování potřeb jednotlivce a společnosti hmotnými i nehmotnými sta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 statky zahrnuje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jem a majetek jednotliv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řejně dostupné statky (kultura apo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votní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ky produkované domácnostmi (domácí práce, péče o dě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lší nemateriální statky (zdraví, volný čas, sociální vzta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kouš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ísem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ktéři rozhodovacího procesu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v agrárním sektoru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Z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grární kom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OPA-COGE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emědě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ravinářská kom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pracov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ktéři rozhodovacího procesu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v agrárním sektoru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esní sva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třebi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vládní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rolní org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GR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Ž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niverzity a jiná vědecká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louchá“ Bru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á vliv na SZIF, Pozemkový fond 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rek Výbor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rázek 2" descr="Obsah obrázku osoba, Lidská tvář, nádobí, oblečení&#10;&#10;Popis byl vytvořen automaticky"/>
          <p:cNvPicPr/>
          <p:nvPr/>
        </p:nvPicPr>
        <p:blipFill>
          <a:blip r:embed="rId1"/>
          <a:stretch/>
        </p:blipFill>
        <p:spPr>
          <a:xfrm>
            <a:off x="6378480" y="2732040"/>
            <a:ext cx="276552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rární kom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n Dolež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ávní a legislativní, konzultační, poradenské a praktické přípravy na povolání, zahraničních vztahů, celní a certifikační, informati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grární komora Č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e rozhodující nevládní agrární organizací, která zastupuje zájmy 103 tisíc svých členů, jimiž jso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emědělci, lesníci, potravináři, ale také včelař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další. Jsme organizací, která má ambice sehrát svoji roli nejenom ve svém tradičním pojet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dukce surovin pro výrobu potravin a údržbu krajin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oji nezastupitelnou roli máme v novém moderním pojet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rozvoje venkov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de chceme bý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artnerem obc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všech ostatních subjektů venkovského prostoru. Zemědělství, cultura agri, k venkovu vždy patřilo a nebude tomu jinak ani v budouc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Agrární komora ČR si zvolila nové vedení, prezidentem se stal Jan Doležal"/>
          <p:cNvPicPr/>
          <p:nvPr/>
        </p:nvPicPr>
        <p:blipFill>
          <a:blip r:embed="rId1"/>
          <a:stretch/>
        </p:blipFill>
        <p:spPr>
          <a:xfrm>
            <a:off x="7308720" y="4830840"/>
            <a:ext cx="16509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Zemědělské a potravinářské minimum pro „zelené teroristy“ dnes o soběstačnosti, 26. 03. 20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63160" y="1844280"/>
            <a:ext cx="843588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dyž hodnotím české zemědělství z pohledu dosahovaných výsledků v užitkovosti a chovu jednotlivých druhů a kategorií zvířat, můžu konstatovat, že je na velmi vysoké úrovni. Skutečně patříme v rámci EU mezi ty nejúspěšnější zem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blém vidím v tom, že se nám nedaří rozšířit chovy u jednotlivých druhů hospodářských zvířat a tím je naše soběstačnost velmi nízká. V součtu všech komodit (mléko, vepřové a hovězí maso, vajíčka, drůbeží maso) se soběstačnost pohybuje na úrovni 55 až 60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č se nám to nedaří? Nedaří se tuto soběstačnost výrazně zvýšit, jelikož nefunguje společná zemědělská politika a jednotný trh. V nákladech na výrobu my Češi nemáme problém konkurovat, ale vlivem nerovnoměrných podpor, jak na plochu (tedy na hektar zemědělské půdy), tak u kofinancování druhého pilíře (tedy programu rozvoje venkova), ale i v národních dotacích jsou podpory následující; Holandsko, Belgie pobírá kolem 400 eur na hektar, Česká republika cca 224 eur na hektar, u kofinancování II. pilíře je Česká republika na 35 %, Spolková republika Německo a Holandsko na 60 %, Rakousko na 100 % (to je kolik dotací stát přidává z vlastních prostředků k podporám z EU pro rozvoj venkova). Národní dotace jsou u nás na úrovni přibližně 25 % ve srovnání se státy EU 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kud by se podařilo sjednotit (přiblížit) společnou zemědělskou politiku ve všech státech EU a nastolit jednotný trh, je velká šance k postupné změně ve zvyšování produkce vlastních domácích výrobků, tedy postupnému zvyšování soběstačnosti, s kterou se zároveň může podstatně snižovat uhlíková stopa, vždyť každý rok přijíždí do ČR s potravinami více než 100 tisíc kamión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vyšování soběstačnosti je nutné i proto, že v současné době je záporné saldo agrárního sektoru 47,2 mld. Kč při nezapočítaní kladné bilance tabákového průmyslu ve výši 8 mld. Kč, je ve skutečnosti záporné saldo agrárního sektoru 55,2 mld. Kč, ještě v roce 1994 bylo kladné saldo ve výši téměř 1 mld. Kč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ýzvou do budoucna k zvyšování soběstačnosti českého zemědělství je přibližování se ve výrobě úrovni Německa a Holandska. Vždyť v SRN je 2,3 krát vyšší výroba mléka na 1 hektar zemědělské půdy, 3,4 krát vyšší výroba hovězího masa na 1 ha zemědělské půdy, 5,1 krát vyšší výroba vepřového masa na 1 ha zemědělské pů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 Česku je velmi extenzivní živočišná výroba a to nepůsobí dobře na úrodnost půd, kde není dostatek organické hmoty, drobtovité struktury a zooedafonu (červy, žížaly, larvy hmyz…) a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České zemědělství čeká zásadní změna ve zvýšení stavu hospodářských zvířat, které přinesenou vyváženost mezi rostlinou a živočišnou výrobou, a tím se zvýší úrodnost půdy a současně dojde k postupnému zvyšování soběstačnosti v živočišných komoditách a k velkému omezení uhlíkové st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 doma vyráběné potraviny probíhají kontroly v celé vertikále výroby a spotřebitel má přesný přehled o kvalitě surovin i nad konečným zpracováním. U dovážených potravinářských výrobků tomu tak není, nikdo nezná, jak probíhá celý proces výroby či zpracování v jiných zemích EU či ve třetích zemích. O tom si povíme něco více příšt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Zdeněk Jandejsek, CSc., prezident AK Č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www.akcr.cz/txt/zemedelske-a-potravinarske-minimum-pro-zelene-teroristy-dnes-o-sobestacnos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Zemědělské a potravinářské minimum pro „zelené teroristy“ dnes o soběstačnosti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kcr.cz/txt/zemedelske-a-potravinarske-minimum-pro-zelene-teroristy-dnes-o-sobestac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součtu všech komodit (mléko, vepřové a hovězí maso, vajíčka, drůbeží maso) se soběstačnost pohybuje na úrovni 55 až 60 %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léko 132,9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vězí maso 120,1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přové maso: 51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ůbež: 67,6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jce: 85,7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emědělský sv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rtin Pý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edmětem činnosti Svaz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obhajovat a prosazovat zájmy svých členů v oblasti produkce, odbytu a zhodnocování zemědělské produkce, usilovat o rozvoj zemědělství a venkova, pomáhat svým členům v rozvoji jejich podnikatelských aktivit a za tím účelem jim poskytovat služby, poradenský servis a vzdělávání v oblasti hospodářské, ekonomické, podnikatelské, obchodní, právní a sociál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Ing. Martin Pýcha - ú&amp;rcaron;adující p&amp;rcaron;edseda p&amp;rcaron;edstavenstva Dru&amp;zcaron;stevní Asociace &amp;Ccaron;R"/>
          <p:cNvPicPr/>
          <p:nvPr/>
        </p:nvPicPr>
        <p:blipFill>
          <a:blip r:embed="rId1"/>
          <a:stretch/>
        </p:blipFill>
        <p:spPr>
          <a:xfrm>
            <a:off x="7537320" y="0"/>
            <a:ext cx="16066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S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roslav Še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bhajoba společných zájmů členů ASZ Č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poradenská a informační činnost v zemědělství a lesnic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) publikační a vydavatelská čin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) obchodní, zprostředkovatelská a obstaravatelská činno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Obrázek 2" descr=""/>
          <p:cNvPicPr/>
          <p:nvPr/>
        </p:nvPicPr>
        <p:blipFill>
          <a:blip r:embed="rId1"/>
          <a:stretch/>
        </p:blipFill>
        <p:spPr>
          <a:xfrm>
            <a:off x="7238880" y="-19080"/>
            <a:ext cx="1905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PA-COGE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lli Tsifo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stará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GE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Obrázek 2" descr="Obsah obrázku Lidská tvář, osoba, oblečení, úsměv&#10;&#10;Popis byl vytvořen automaticky"/>
          <p:cNvPicPr/>
          <p:nvPr/>
        </p:nvPicPr>
        <p:blipFill>
          <a:blip r:embed="rId1"/>
          <a:stretch/>
        </p:blipFill>
        <p:spPr>
          <a:xfrm>
            <a:off x="7219800" y="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travinářská kom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ana Večeřov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astupování zájmů potravinářského průmyslu a zpracovatelů zemědělské produkce aktivně působících na území České republiky vůči orgánům státní správy, orgánům a organizacím EU a jiným orgánům a organizacím, jejichž činnost jakýmkoliv způsobem souvisí se zájmy podnikatelů zpracovatelského průmys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travinářské odborné a technologické poradenství v oblasti zpracování zemědělské produkce, nápojů a výroby potravin včetně připomínkových řízení legislativních novel a podpůrných program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polupráce s ostatními oborovými svazy a společenstvy, která mají k problematice potravinářství vztah a nebo navazují na jeho činno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vádění vzdělávacích a školících činnost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a a uplatňování vědy, výzkumu, vývoje a inovací, včetně transferu technologií a know-h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Obrázek 1" descr=""/>
          <p:cNvPicPr/>
          <p:nvPr/>
        </p:nvPicPr>
        <p:blipFill>
          <a:blip r:embed="rId1"/>
          <a:stretch/>
        </p:blipFill>
        <p:spPr>
          <a:xfrm>
            <a:off x="7254720" y="0"/>
            <a:ext cx="1889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Slaný, A. a kol.: Makroekonomická analýza a hospodářská politika, 2003, C.H. Beck, ISBN 807179738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Baldwin, R. E., Wyplosz, C., &amp; Šaroch, S. (2008). Ekonomie evropské integrace. Praha: G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Kliková, Ch., Kotlán, I.: Hospodářská politika, 2013, Institut vzdělávání SOKRATES, ISBN 9788086572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Kučerová, I.: Hospodářské politiky v kontextu vývoje Evropské unie, 2010, Karolinum, ISBN 97880246162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Tomeš, Z. (2008). Hospodářská politika: 1900-2007. V Praze: C.H. Be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GR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is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eměděl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pora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pora pojištění lesních ško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vodňové půjč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Časové rozliš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átkodobé politiky (1-2 roky i méně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řednědobé politiky (3-5 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louhodobé, perspektivní politiky (nad 5  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manentní politiky (obecné cí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storová úrove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okální (sporadicky užívaná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gion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rod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dnárodní (EU apo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lob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stroje ekonomických polit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zitivní (podpůrn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gativní (omezují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žní (nepřím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kruhy ekonomických polit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em je právní rámec ekonomi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žní politiky ve vztahu k domácímu a zahraničnímu tr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itiky ve vztahu k produkčním faktorů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živová a potravinová poli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itiky ve vztahu k životnímu prostředí a 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ální a regionální poli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konomická integrace a její ná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nergetická poli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poli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rární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specifickou formou ekonomické politiky států (nadnárodního seskupení atd.) zaměřená na efektivní spoluúčast agrárního sektoru na realizaci hospodářského a společenského rozvoje při respektování specifických rysů zemědělství a produkce potrav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zor Václava Kl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emědělství je odvětvím národní ekonomiky jako každé jiné, nemá žádná natolik výrazná  specifika, aby to podmiňovalo potřebu specifické agrární politiky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Václav Klaus (1990)"/>
          <p:cNvPicPr/>
          <p:nvPr/>
        </p:nvPicPr>
        <p:blipFill>
          <a:blip r:embed="rId1"/>
          <a:stretch/>
        </p:blipFill>
        <p:spPr>
          <a:xfrm>
            <a:off x="4762440" y="3962520"/>
            <a:ext cx="4381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ecifika agrárního sekto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živa – zdra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ržba kraj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od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ídlení venk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mární se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itická citliv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požd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ečtěte si uvedený člán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k se zeptám na Váš náz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měřte se zejména na komoditu obilí a máslo s mlék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158760" y="260280"/>
            <a:ext cx="898524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travinové hory v Evrop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utor: Liberální institut | Publikováno: 14.3.2007 | Rubrika: Novin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 podivnosti a nesmyslnosti společné zemědělské politiky toho bylo napsáno již mnoho, pár čísel ale není nikdy na škodu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olečná zemědělská politika (SZP) má svůj původ v 50. letech minulého století, kdy vznikla jako dohoda mezi Němci a Francouzi o vzájemné podpoře hospodářství. Po více než 40 letech od jejího zavedení je na SZP prakticky nic nezměnilo -- stále se jedná o položku, která zatěžuje unijní rozpočet ponejvíce. Stále je to Francie, která každým rokem získává největší podíl dotací. Stále dochází k "nadprodukci" téměř všech zemědělských plodin, které bude věnován také zbytek tohoto příspěv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nulý týden se na stránkách think-tanku OpenEurope objevila zpráva obsahující čísla o skladovaném množství několika produktů v roce 2006, jež byly ovlivněny právě SZP. Co  lze ze zprávy vyčís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příklad to, že více než 12 milionů tun obilí bylo naskladněno za tím účelem, aby se "udržela" uměle vysoká cena obilí prodávaného na trhu. Pro lepší představu: zmíněné množství by se bez problémů dvakrát vešlo do Rožmber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ále pak také to, že se Evropští úředníci rozhodli a "bokem" dali 265 milionů láhví vína (kterými by se bazén o rozměrech náměstí Sv. Václava zaplnil do výše 4,1 metrů) a 117 tisíc tun másla a mléka (takovéto množství by přišlo vhod, kdybyste připravovali 78,5 miliard sendvičů a plnili 150 milionů krabic mlék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slední číslo, které zpráva uvádí, je 1 112 651 tun "naskladněného" cukru. Jestliže pijete dva šálky čaje denně, stačilo by vám to na více než 600 milionů l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závěr malé přirovnání. V Sovětském svazu stály pro nedostatek nafty na polích traktory, což bylo následkem určitých "opatření" vyhlášených Moskvou. V Evropě 21. století leží ladem potraviny, jelikož o tom rozhodla hrstka úředníků v Bruselu. Že by se někdo nepouči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etr Havlík, Liberální instit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ine: The Economics of the European Union: Policy and Analysis, Edit by Artis, M., Nixson, F., 2009-13, Oxford Univ Pr., ISBN 97801992989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ojtíková, L., &amp; Lebiedzik, M. (2008). Společné politiky EU: Historie a současnost se zaměřením na Českou republiku. Praha: C.H. B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iglitz, J.: The Euro: And its Threat to the Future of Europe, 2017, Penguin, ISBN 97801419832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rozdiak, W.: Fractured Continent: Europe's Crises and the Fate of the West, 2017, W. W. Norton &amp; Company, ISBN 97803936086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ordan, J.: Political and social trends in the future of global security. A meta-study on official perspectives in Europe and North America, 2017, European Journal of Futures Research, vol. 5, no.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tlán, I.: Aplikovaná hospodářská politika, 2013, Institut vzdělávání SOKRATES, ISBN 978808657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rek, D., Baun. M.: Cohesion Policy in the European Union (The European Union Series), 2014, Red Globe Press, ISBN 97802303031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tysek-Jȩdrych, A.: Institutional Arrangement for Macroproprudential Policy - On Differences Across the EU Countries, 2018, Comparative Economic Research, vol. 21, no. 2, pp. 37-5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ine: Economic Policy in the European Union: Current Perspectives, Edit by Meeusen, W., 2010, ISBN 97818406403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ine: Handbook on Cohesion Policy in the EU, Edit by Piattoni, S., 2016, Edward Elgar p., ISBN 97817847156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ine: Benchmarking Working Europe 2018, 2018, ETUC and ETUI, ISBN 97828745246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pravdu se jedná o čísla, která by nás měla nadzvedávat ze žid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kusíme si přepočet na obyvate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ukr: 2,2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ilí: 24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no: 0,371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léko a máslo: 0,234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Velký zemědělec kritizuje nové dotace: Chleba může stát 200 korun a rohlík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seznamzpravy.cz/clanek/audio-podcast-agenda-vzniknou-farmy-ktere-nevypestuji-nic-jen-ziskaji-dotace-varuje-zemedelec-1870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Vy se domníváte, že zásobování na malých nelze postavi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 žádném případě. Uvidíme to na cenách. Až dojde k tomu, že chleba bude stát 200 korun a rohlík 15 koru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Jaké bude zdražení u vašich produktů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Takové, jaké nám připustí řetězce. My si nemůžeme stanovit ceny podle naší kalkulace a podle toho, kolik nás to stojí. My od nich dostaneme cenu, za jakou to chtějí. Buď jim to dáme, a pokud to neumíme, tak to musíme zruš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rárně politické cí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fektivní účast zemědělství na národohospodářském rozvo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bilizace agrárních tr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ální zásobování obyvatelstva potravinami v odpovídající kvantitě, kvalitě, časové a plošné alokaci a dostupné ce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bezpečení přiměřené životní úrovně pracovníků v zemědělství - zmírnění důchodové disp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rovnávání oborově specifických nevýh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valá udržitelnost - ochrana a rozvoj krajiny, životního prostředí, „animal welfar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ltifunkčnost zemědělství: provázanost zemědělské výroby, její sociální funkce, rozvoje venk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molka, J. a kol.: Agrární a strukturální politika. PEF Praha, 2012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vatoš, M. a kol.: Agrární politika. PEF Praha, 20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áva o stavu českého zemědělství za rok  2004 - 2020. MZe ČR, Praha  (Z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rnoch, F., Zapletalová, V.: Energetická politika Evropské unie,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dopravy: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PRAVNÍ POLITIKA ČR PRO OBDOBÍ 2014 – 2020 S VÝHLEDEM DO ROKU 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plňkové prezentace na webu (.p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ě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amuelson, Nordhaus: Ekon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000000"/>
                </a:solidFill>
                <a:latin typeface="Arial"/>
              </a:rPr>
              <a:t>Ekonomické rubriky rozličných (seriózních) periodik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Kontrolní otáz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é funkce má ČNB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é je aktuálně veřejné zadlužení Česk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 si ekonomicky stojíme oproti průměru E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é jsou metody výpočtu HD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ý je rozdíl mezi HDP a ČD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ý je rozdíl mezi HDP a HN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ý je podíl zemědělství na HD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o je to Philipsova křivk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o je to Lafferova křivk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5T15:49:18Z</dcterms:created>
  <dc:creator>maiert</dc:creator>
  <dc:description/>
  <dc:language>en-US</dc:language>
  <cp:lastModifiedBy>Maier Tomáš</cp:lastModifiedBy>
  <dcterms:modified xsi:type="dcterms:W3CDTF">2025-02-07T12:58:59Z</dcterms:modified>
  <cp:revision>93</cp:revision>
  <dc:subject/>
  <dc:title>Agrární a strukturální politika</dc:title>
</cp:coreProperties>
</file>