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628-3D14-4FA2-BE07-9BB94C0A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5C1-B403-439F-A123-FF70C3B8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D82-6314-408E-93D8-4B150F2B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078-65B6-4DCF-91B4-8F84BA42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46D-8BBB-42B9-8F01-B1A49989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7B2-81DA-4844-8D12-C1E9FFC2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5AA-41AF-4A75-A6FC-153FFCA8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737-6CE1-41A7-B6FB-9F6BEE2B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5FA-CB37-4A27-8517-676721FC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95D-9450-48FD-8A9A-400F2692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432-97EA-4F6D-8132-A69CD04A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A9B-F847-4050-A343-6034CF35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E7E0-8206-4B3D-ACE7-9C6A964ECF2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ospodářská politika</a:t>
            </a:r>
            <a:br>
              <a:rPr sz="4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ské zeměděl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ukaza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rázek 2" descr=""/>
          <p:cNvPicPr/>
          <p:nvPr/>
        </p:nvPicPr>
        <p:blipFill>
          <a:blip r:embed="rId1"/>
          <a:stretch/>
        </p:blipFill>
        <p:spPr>
          <a:xfrm>
            <a:off x="0" y="1449360"/>
            <a:ext cx="9144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rázek 2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0" y="830160"/>
            <a:ext cx="914400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ázek 2" descr="Obsah obrázku text, snímek obrazovky, Písmo, řada/pruh&#10;&#10;Popis byl vytvořen automaticky"/>
          <p:cNvPicPr/>
          <p:nvPr/>
        </p:nvPicPr>
        <p:blipFill>
          <a:blip r:embed="rId1"/>
          <a:stretch/>
        </p:blipFill>
        <p:spPr>
          <a:xfrm>
            <a:off x="0" y="844560"/>
            <a:ext cx="91440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ázek 1" descr=""/>
          <p:cNvPicPr/>
          <p:nvPr/>
        </p:nvPicPr>
        <p:blipFill>
          <a:blip r:embed="rId1"/>
          <a:stretch/>
        </p:blipFill>
        <p:spPr>
          <a:xfrm>
            <a:off x="498600" y="620640"/>
            <a:ext cx="80420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ázek 2" descr=""/>
          <p:cNvPicPr/>
          <p:nvPr/>
        </p:nvPicPr>
        <p:blipFill>
          <a:blip r:embed="rId1"/>
          <a:stretch/>
        </p:blipFill>
        <p:spPr>
          <a:xfrm>
            <a:off x="0" y="1185840"/>
            <a:ext cx="9144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103320" y="64738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běstačnost 70 – 8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2" descr=""/>
          <p:cNvPicPr/>
          <p:nvPr/>
        </p:nvPicPr>
        <p:blipFill>
          <a:blip r:embed="rId1"/>
          <a:stretch/>
        </p:blipFill>
        <p:spPr>
          <a:xfrm>
            <a:off x="0" y="95256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rázek 2" descr=""/>
          <p:cNvPicPr/>
          <p:nvPr/>
        </p:nvPicPr>
        <p:blipFill>
          <a:blip r:embed="rId1"/>
          <a:stretch/>
        </p:blipFill>
        <p:spPr>
          <a:xfrm>
            <a:off x="0" y="939960"/>
            <a:ext cx="9144000" cy="49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ázek 2" descr=""/>
          <p:cNvPicPr/>
          <p:nvPr/>
        </p:nvPicPr>
        <p:blipFill>
          <a:blip r:embed="rId1"/>
          <a:stretch/>
        </p:blipFill>
        <p:spPr>
          <a:xfrm>
            <a:off x="0" y="911160"/>
            <a:ext cx="9144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rázek 2" descr=""/>
          <p:cNvPicPr/>
          <p:nvPr/>
        </p:nvPicPr>
        <p:blipFill>
          <a:blip r:embed="rId1"/>
          <a:stretch/>
        </p:blipFill>
        <p:spPr>
          <a:xfrm>
            <a:off x="0" y="865080"/>
            <a:ext cx="914400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kladní ekonomické ukazat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F je 7 886 tis.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F: 4 224 tis.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íl: 53,56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ná půda: 3 000 tis.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 zornění: 70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íl zemědělství na HDP: 2,07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ZP: 121,3 mld.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íl HRP: 62,32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íl: HŽP: 37,68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rázek 2" descr=""/>
          <p:cNvPicPr/>
          <p:nvPr/>
        </p:nvPicPr>
        <p:blipFill>
          <a:blip r:embed="rId1"/>
          <a:stretch/>
        </p:blipFill>
        <p:spPr>
          <a:xfrm>
            <a:off x="9360" y="1176480"/>
            <a:ext cx="91252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ázek 2" descr=""/>
          <p:cNvPicPr/>
          <p:nvPr/>
        </p:nvPicPr>
        <p:blipFill>
          <a:blip r:embed="rId1"/>
          <a:stretch/>
        </p:blipFill>
        <p:spPr>
          <a:xfrm>
            <a:off x="0" y="1038240"/>
            <a:ext cx="9144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rázek 1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798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1765440"/>
            <a:ext cx="91440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1003320"/>
            <a:ext cx="91440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rázek 1" descr=""/>
          <p:cNvPicPr/>
          <p:nvPr/>
        </p:nvPicPr>
        <p:blipFill>
          <a:blip r:embed="rId1"/>
          <a:stretch/>
        </p:blipFill>
        <p:spPr>
          <a:xfrm>
            <a:off x="790560" y="557280"/>
            <a:ext cx="756288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ázek 1" descr=""/>
          <p:cNvPicPr/>
          <p:nvPr/>
        </p:nvPicPr>
        <p:blipFill>
          <a:blip r:embed="rId1"/>
          <a:stretch/>
        </p:blipFill>
        <p:spPr>
          <a:xfrm>
            <a:off x="1301760" y="0"/>
            <a:ext cx="65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ázek 1" descr=""/>
          <p:cNvPicPr/>
          <p:nvPr/>
        </p:nvPicPr>
        <p:blipFill>
          <a:blip r:embed="rId1"/>
          <a:stretch/>
        </p:blipFill>
        <p:spPr>
          <a:xfrm>
            <a:off x="1227240" y="0"/>
            <a:ext cx="668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4920" y="1700280"/>
          <a:ext cx="9109080" cy="4287600"/>
        </p:xfrm>
        <a:graphic>
          <a:graphicData uri="http://schemas.openxmlformats.org/drawingml/2006/table">
            <a:tbl>
              <a:tblPr/>
              <a:tblGrid>
                <a:gridCol w="2271600"/>
                <a:gridCol w="795600"/>
                <a:gridCol w="734760"/>
                <a:gridCol w="816120"/>
                <a:gridCol w="2160720"/>
                <a:gridCol w="795240"/>
                <a:gridCol w="735120"/>
                <a:gridCol w="799920"/>
              </a:tblGrid>
              <a:tr h="7952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ož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dnota vývozu (mld. Kč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íl na agrár. vývozu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měna proti roku 2021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ož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dnota dovozu (mld. Kč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íl na agrár. dovozu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měna proti roku 2021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804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ípravky k výživě zvíř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přové ma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84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šeni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kařské zboží, pečivo, oplatky apo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gare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ravinové přípravk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8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ravinové přípravk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pravky k výživě zvíř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kařské zboží, pečivo, oplatky apo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ýry a tvar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léko a smetana nezahuštěná neslazen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okoláda a ostatní kakaové příprav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984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ýry a tvar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áv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804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Řepkový ol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ůbeží ma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okoláda a ostatní kakaové příprav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gare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696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v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da a nealkoholické nápo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1395720" y="165240"/>
            <a:ext cx="7320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abulka 1 – Přehled 10 nejvíce z ČR vyvážených a do ČR dovážených položek v roce 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zn.: Agrární zboží je vymezené kapitolami 01 až 24 celního sazebníku; hodnoty řazeny na základě HS 4. Výpočty jsou provedeny z nezaokrouhlených dat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droj: ČSÚ – Databáze pohybu zboží přes hranice, únor 20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738160" y="490320"/>
            <a:ext cx="402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abulka 5 – Vývoj AZO ČR v letech 2017 až 2022 (mld. Kč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rázek 21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639280" cy="2879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433080" y="6357960"/>
            <a:ext cx="858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Pozn.: Agrární zboží je vymezené kapitolami 01 až 24 celního sazebníku; Výpočty jsou provedeny z nezaokrouhlených dat.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Zdroj: ČSÚ – Databáze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pohybu zboží přes hranice, únor 20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kazat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íl na zaměstnanosti: méně než 2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lance ZO: -36,7 mld. Kč (20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ot celkem: 1 418 106 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 toho dojnice: 361 000 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běstačnost hovězího masa 131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běstačnost mléka: 124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brázek 2" descr=""/>
          <p:cNvPicPr/>
          <p:nvPr/>
        </p:nvPicPr>
        <p:blipFill>
          <a:blip r:embed="rId1"/>
          <a:stretch/>
        </p:blipFill>
        <p:spPr>
          <a:xfrm>
            <a:off x="-73080" y="1989000"/>
            <a:ext cx="9069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1" descr=""/>
          <p:cNvPicPr/>
          <p:nvPr/>
        </p:nvPicPr>
        <p:blipFill>
          <a:blip r:embed="rId1"/>
          <a:stretch/>
        </p:blipFill>
        <p:spPr>
          <a:xfrm>
            <a:off x="0" y="1227240"/>
            <a:ext cx="914400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rázek 2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ázek 2" descr=""/>
          <p:cNvPicPr/>
          <p:nvPr/>
        </p:nvPicPr>
        <p:blipFill>
          <a:blip r:embed="rId1"/>
          <a:stretch/>
        </p:blipFill>
        <p:spPr>
          <a:xfrm>
            <a:off x="0" y="1139760"/>
            <a:ext cx="9144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ázek 2" descr=""/>
          <p:cNvPicPr/>
          <p:nvPr/>
        </p:nvPicPr>
        <p:blipFill>
          <a:blip r:embed="rId1"/>
          <a:stretch/>
        </p:blipFill>
        <p:spPr>
          <a:xfrm>
            <a:off x="0" y="1133640"/>
            <a:ext cx="914400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rázek 2" descr=""/>
          <p:cNvPicPr/>
          <p:nvPr/>
        </p:nvPicPr>
        <p:blipFill>
          <a:blip r:embed="rId1"/>
          <a:stretch/>
        </p:blipFill>
        <p:spPr>
          <a:xfrm>
            <a:off x="19080" y="195120"/>
            <a:ext cx="910584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23:03:54Z</dcterms:created>
  <dc:creator>Toshiba</dc:creator>
  <dc:description/>
  <dc:language>en-US</dc:language>
  <cp:lastModifiedBy>Maier Tomáš</cp:lastModifiedBy>
  <dcterms:modified xsi:type="dcterms:W3CDTF">2024-03-23T10:20:02Z</dcterms:modified>
  <cp:revision>23</cp:revision>
  <dc:subject/>
  <dc:title>České zemědělství</dc:title>
</cp:coreProperties>
</file>