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13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9.jpeg" ContentType="image/jpeg"/>
  <Override PartName="/ppt/media/image11.png" ContentType="image/png"/>
  <Override PartName="/ppt/media/image38.png" ContentType="image/png"/>
  <Override PartName="/ppt/media/image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C6C-D6C0-42D6-AD56-3484C99E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F10-F3C4-4C8E-AAF1-283A0F3B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AB2-2D85-412B-A8C6-4F5EA77B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8F0-2A70-463E-B12C-D2D135BC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323-0A48-4A4B-B1C0-AC60B7E0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895-C4F5-4C7B-9717-5763EE90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150-374A-46FD-8EBE-ECF499CB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FB4-708B-423E-AA16-491AF6AD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B03-F208-42D7-ACCF-04C17F55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B0B-9FE4-45FB-B198-EB3BA385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BF7-FC48-481E-B0F7-939B1B8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8DD-9F70-4CD8-B4A1-4A59109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81F2-33BA-4514-ABD6-7E5132ACA74A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ndikatory.env.cz/indikator.php?group=ENC&amp;main_id=0&amp;sub_id=-1&amp;process=1" TargetMode="External"/><Relationship Id="rId2" Type="http://schemas.openxmlformats.org/officeDocument/2006/relationships/hyperlink" Target="http://indikatory.env.cz/indikator.php?group=ENC&amp;main_id=1&amp;sub_id=-1&amp;process=1" TargetMode="External"/><Relationship Id="rId3" Type="http://schemas.openxmlformats.org/officeDocument/2006/relationships/hyperlink" Target="http://indikatory.env.cz/indikator.php?group=ENC&amp;main_id=2&amp;sub_id=-1&amp;process=1" TargetMode="External"/><Relationship Id="rId4" Type="http://schemas.openxmlformats.org/officeDocument/2006/relationships/hyperlink" Target="http://indikatory.env.cz/indikator.php?group=ENC&amp;main_id=3&amp;sub_id=-1&amp;process=1" TargetMode="External"/><Relationship Id="rId5" Type="http://schemas.openxmlformats.org/officeDocument/2006/relationships/hyperlink" Target="http://indikatory.env.cz/indikator.php?group=ENC&amp;main_id=4&amp;sub_id=-1&amp;process=1" TargetMode="External"/><Relationship Id="rId6" Type="http://schemas.openxmlformats.org/officeDocument/2006/relationships/hyperlink" Target="http://indikatory.env.cz/indikator.php?group=ENC&amp;main_id=5&amp;sub_id=-1&amp;process=1" TargetMode="External"/><Relationship Id="rId7" Type="http://schemas.openxmlformats.org/officeDocument/2006/relationships/hyperlink" Target="http://indikatory.env.cz/indikator.php?group=ENC&amp;main_id=6&amp;sub_id=-1&amp;process=1" TargetMode="External"/><Relationship Id="rId8" Type="http://schemas.openxmlformats.org/officeDocument/2006/relationships/hyperlink" Target="http://indikatory.env.cz/indikator.php?group=ENC&amp;main_id=7&amp;sub_id=-1&amp;process=1" TargetMode="External"/><Relationship Id="rId9" Type="http://schemas.openxmlformats.org/officeDocument/2006/relationships/hyperlink" Target="http://indikatory.env.cz/indikator.php?group=ENC&amp;main_id=8&amp;sub_id=-1&amp;process=1" TargetMode="External"/><Relationship Id="rId10" Type="http://schemas.openxmlformats.org/officeDocument/2006/relationships/hyperlink" Target="http://indikatory.env.cz/indikator.php?group=ENC&amp;main_id=9&amp;sub_id=-1&amp;process=1" TargetMode="External"/><Relationship Id="rId11" Type="http://schemas.openxmlformats.org/officeDocument/2006/relationships/hyperlink" Target="http://indikatory.env.cz/indikator.php?group=ENC&amp;main_id=10&amp;sub_id=-1&amp;process=1" TargetMode="External"/><Relationship Id="rId12" Type="http://schemas.openxmlformats.org/officeDocument/2006/relationships/hyperlink" Target="http://indikatory.env.cz/indikator.php?group=ENC&amp;main_id=11&amp;sub_id=-1&amp;process=1" TargetMode="External"/><Relationship Id="rId13" Type="http://schemas.openxmlformats.org/officeDocument/2006/relationships/hyperlink" Target="http://indikatory.env.cz/indikator.php?group=ENC&amp;main_id=12&amp;sub_id=-1&amp;process=1" TargetMode="External"/><Relationship Id="rId14" Type="http://schemas.openxmlformats.org/officeDocument/2006/relationships/hyperlink" Target="http://indikatory.env.cz/indikator.php?group=ENC&amp;main_id=13&amp;sub_id=-1&amp;process=1" TargetMode="External"/><Relationship Id="rId15" Type="http://schemas.openxmlformats.org/officeDocument/2006/relationships/hyperlink" Target="http://indikatory.env.cz/indikator.php?group=ENC&amp;main_id=14&amp;sub_id=-1&amp;process=1" TargetMode="External"/><Relationship Id="rId16" Type="http://schemas.openxmlformats.org/officeDocument/2006/relationships/hyperlink" Target="http://indikatory.env.cz/indikator.php?group=ENC&amp;main_id=15&amp;sub_id=-1&amp;process=1" TargetMode="External"/><Relationship Id="rId17" Type="http://schemas.openxmlformats.org/officeDocument/2006/relationships/hyperlink" Target="http://indikatory.env.cz/indikator.php?group=ENC&amp;main_id=16&amp;sub_id=-1&amp;process=1" TargetMode="External"/><Relationship Id="rId18" Type="http://schemas.openxmlformats.org/officeDocument/2006/relationships/hyperlink" Target="http://indikatory.env.cz/indikator.php?group=ENC&amp;main_id=17&amp;sub_id=-1&amp;process=1" TargetMode="External"/><Relationship Id="rId19" Type="http://schemas.openxmlformats.org/officeDocument/2006/relationships/hyperlink" Target="http://indikatory.env.cz/indikator.php?group=ENC&amp;main_id=18&amp;sub_id=-1&amp;process=1" TargetMode="External"/><Relationship Id="rId20" Type="http://schemas.openxmlformats.org/officeDocument/2006/relationships/hyperlink" Target="http://indikatory.env.cz/indikator.php?group=ENC&amp;main_id=19&amp;sub_id=-1&amp;process=1" TargetMode="External"/><Relationship Id="rId21" Type="http://schemas.openxmlformats.org/officeDocument/2006/relationships/hyperlink" Target="http://indikatory.env.cz/indikator.php?group=ENC&amp;main_id=20&amp;sub_id=-1&amp;process=1" TargetMode="External"/><Relationship Id="rId22" Type="http://schemas.openxmlformats.org/officeDocument/2006/relationships/hyperlink" Target="http://indikatory.env.cz/indikator.php?group=ENC&amp;main_id=21&amp;sub_id=-1&amp;process=1" TargetMode="External"/><Relationship Id="rId23" Type="http://schemas.openxmlformats.org/officeDocument/2006/relationships/hyperlink" Target="http://indikatory.env.cz/indikator.php?group=ENC&amp;main_id=22&amp;sub_id=-1&amp;process=1" TargetMode="External"/><Relationship Id="rId24" Type="http://schemas.openxmlformats.org/officeDocument/2006/relationships/hyperlink" Target="http://indikatory.env.cz/indikator.php?group=ENC&amp;main_id=34&amp;sub_id=-1&amp;process=1" TargetMode="External"/><Relationship Id="rId2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ndikatory.env.cz/indikator.php?group=SOC&amp;main_id=23&amp;sub_id=-1&amp;process=1" TargetMode="External"/><Relationship Id="rId2" Type="http://schemas.openxmlformats.org/officeDocument/2006/relationships/hyperlink" Target="http://indikatory.env.cz/indikator.php?group=SOC&amp;main_id=24&amp;sub_id=-1&amp;process=1" TargetMode="External"/><Relationship Id="rId3" Type="http://schemas.openxmlformats.org/officeDocument/2006/relationships/hyperlink" Target="http://indikatory.env.cz/indikator.php?group=SOC&amp;main_id=25&amp;sub_id=-1&amp;process=1" TargetMode="External"/><Relationship Id="rId4" Type="http://schemas.openxmlformats.org/officeDocument/2006/relationships/hyperlink" Target="http://indikatory.env.cz/indikator.php?group=SOC&amp;main_id=26&amp;sub_id=-1&amp;process=1" TargetMode="External"/><Relationship Id="rId5" Type="http://schemas.openxmlformats.org/officeDocument/2006/relationships/hyperlink" Target="http://indikatory.env.cz/indikator.php?group=SOC&amp;main_id=28&amp;sub_id=-1&amp;process=1" TargetMode="External"/><Relationship Id="rId6" Type="http://schemas.openxmlformats.org/officeDocument/2006/relationships/hyperlink" Target="http://indikatory.env.cz/indikator.php?group=SOC&amp;main_id=29&amp;sub_id=-1&amp;process=1" TargetMode="External"/><Relationship Id="rId7" Type="http://schemas.openxmlformats.org/officeDocument/2006/relationships/hyperlink" Target="http://indikatory.env.cz/indikator.php?group=SOC&amp;main_id=30&amp;sub_id=-1&amp;process=1" TargetMode="External"/><Relationship Id="rId8" Type="http://schemas.openxmlformats.org/officeDocument/2006/relationships/hyperlink" Target="http://indikatory.env.cz/indikator.php?group=SOC&amp;main_id=32&amp;sub_id=-1&amp;process=1" TargetMode="External"/><Relationship Id="rId9" Type="http://schemas.openxmlformats.org/officeDocument/2006/relationships/hyperlink" Target="http://indikatory.env.cz/indikator.php?group=SOC&amp;main_id=43&amp;sub_id=-1&amp;process=1" TargetMode="External"/><Relationship Id="rId10" Type="http://schemas.openxmlformats.org/officeDocument/2006/relationships/hyperlink" Target="http://indikatory.env.cz/indikator.php?group=SOC&amp;main_id=44&amp;sub_id=-1&amp;process=1" TargetMode="External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ndikatory.env.cz/indikator.php?group=EKC&amp;main_id=54&amp;sub_id=-1&amp;process=1" TargetMode="External"/><Relationship Id="rId2" Type="http://schemas.openxmlformats.org/officeDocument/2006/relationships/hyperlink" Target="http://indikatory.env.cz/indikator.php?group=EKC&amp;main_id=56&amp;sub_id=-1&amp;process=1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ffff"/>
                </a:solidFill>
                <a:latin typeface="Tahoma"/>
              </a:rPr>
              <a:t>HPI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04920" y="1862280"/>
            <a:ext cx="91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ff33"/>
                </a:solidFill>
                <a:latin typeface="Tahoma"/>
              </a:rPr>
              <a:t>Environmentální politiky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4" name="Picture 5" descr="herrbay"/>
          <p:cNvPicPr/>
          <p:nvPr/>
        </p:nvPicPr>
        <p:blipFill>
          <a:blip r:embed="rId1"/>
          <a:stretch/>
        </p:blipFill>
        <p:spPr>
          <a:xfrm>
            <a:off x="0" y="3403440"/>
            <a:ext cx="4724280" cy="3149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5" name="Picture 6" descr="farma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259056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46" name="Picture 7" descr="horec"/>
          <p:cNvPicPr/>
          <p:nvPr/>
        </p:nvPicPr>
        <p:blipFill>
          <a:blip r:embed="rId3"/>
          <a:stretch/>
        </p:blipFill>
        <p:spPr>
          <a:xfrm>
            <a:off x="3429000" y="5102280"/>
            <a:ext cx="2495520" cy="17557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Kjótský protok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Rámcová úmluva OSN o změně klimatu</a:t>
            </a: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 přijatá v červnu 1992 na Konferenci OSN o životním prostředí a rozvoji (UNCED – The United Nations Conference on Enviroment and Development) vytvořila předpoklady pro urychlenou stabilizaci koncentrací skleníkových plynů v atmosféře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Od roku 1995 se  každoročně konají konference smluvních stran, které hodnotí a kontrolují způsob plnění tohoto dokumentu a ukládají státům další úkoly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3.í konference smluvních stran v japonském Kjótu  1.-11. 12. 1997 přijala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            </a:t>
            </a: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Kjótský protokol k Rámcové úmluvě</a:t>
            </a: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který vybraným smluvním stranám určuje kvantitativní redukční cíle emisí skleníkových plynů, které by v první etapě (do kontrolního období 2008-2012) zajistily celkové snížení světových emisí o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5,2 % v porovnání s úrovní v roce 1990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KJOTSKÝ PROTOKOL </a:t>
            </a: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K  RAMCOVÉMU PROGRAMU OSN </a:t>
            </a: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O KLIMATICKÝCH ZMĚNÁCH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Byl po dlouhých jednáních přijat na zasedání v Kjotu v Japonsku 11.12.1997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Stanoví kvantitativní limity omezení emisí skleníkových plynů, které by měly v 1.etapě (kontrolní období let 2008-2012) snížit světové emise těchto plynů o 5,2 ˇve srovnání s rokem 199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KJOTSKÝ PROTOKOL </a:t>
            </a: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K  RAMCOVÉMU PROGRAMU OSN </a:t>
            </a: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O KLIMATICKÝCH ZMĚNÁCH</a:t>
            </a:r>
            <a:r>
              <a:rPr b="1" lang="cs-CZ" sz="3200" spc="-1" strike="noStrike">
                <a:solidFill>
                  <a:srgbClr val="ccffff"/>
                </a:solidFill>
                <a:latin typeface="Tahoma"/>
              </a:rPr>
              <a:t> KYOTO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Země zahrnuté v dodatku B tohoto protokolu a jejich cílové limity snížení emisí (1990- 2008/2012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EU-15, Bulharsko, ČR, Estonsko, Litva Lishtenštejnsko, Lotyšsko, Slovensko, Slovinsko, Švýcarské, Monako, Rumunsko  -8%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US  -7%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Kanada, Maďarsko, japonsko, Polsko   -6%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Chorvatsko   -5%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Nový Zéland, Rusko, Ukrajina  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Norsko    +1%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Austrálie  +8%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Island    +10%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g004-large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5636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</p:spTree>
  </p:cSld>
  <p:transition>
    <p:randomBar dir="horz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Kjotský protok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16280"/>
            <a:ext cx="8373960" cy="3141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stoupil v platnost a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15.2.2005,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poté, co byl ratifikován Ruskou Federací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Je nyní právně závazný pro 128 signatářů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Je zřejmé, že environmentální politika vychází  z koncept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95280" y="1989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ff00"/>
                </a:solidFill>
                <a:latin typeface="Tahoma"/>
              </a:rPr>
              <a:t>trvale udržitelného rozvoj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50920" y="2997360"/>
            <a:ext cx="82454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Ten je, jak si jistě pamatujete z jiných předmětů,  definován jak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ahoma"/>
              </a:rPr>
              <a:t>„</a:t>
            </a:r>
            <a:r>
              <a:rPr b="1" i="1" lang="cs-CZ" sz="2800" spc="-1" strike="noStrike">
                <a:solidFill>
                  <a:srgbClr val="ffff00"/>
                </a:solidFill>
                <a:latin typeface="Tahoma"/>
              </a:rPr>
              <a:t>.. takový způsob ekonomického a sociálního rozvoje, který uspokojuje potřeby přítomnosti, aniž by oslaboval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ahoma"/>
              </a:rPr>
              <a:t>možnosti budoucích generací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ahoma"/>
              </a:rPr>
              <a:t>naplňovat jejich vlastní potřeby. 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(Our Common Future, OSN, 1987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1" name="Picture 5" descr="bruntland_signiture"/>
          <p:cNvPicPr/>
          <p:nvPr/>
        </p:nvPicPr>
        <p:blipFill>
          <a:blip r:embed="rId1"/>
          <a:stretch/>
        </p:blipFill>
        <p:spPr>
          <a:xfrm>
            <a:off x="5580000" y="6381720"/>
            <a:ext cx="2381400" cy="476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2" name="Picture 6" descr="bruntland2"/>
          <p:cNvPicPr/>
          <p:nvPr/>
        </p:nvPicPr>
        <p:blipFill>
          <a:blip r:embed="rId2"/>
          <a:stretch/>
        </p:blipFill>
        <p:spPr>
          <a:xfrm>
            <a:off x="7562880" y="4781520"/>
            <a:ext cx="1581120" cy="2076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ffff"/>
                </a:solidFill>
                <a:latin typeface="Tahoma"/>
              </a:rPr>
              <a:t>Tato defini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zohledňuje především tzv.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vertikální rozměr trvalé udržitelnost</a:t>
            </a: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, tedy rozměr v čas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Dalším rozměrem je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rozměr horizontální</a:t>
            </a: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, prostorový, týkající se spravedlnosti čerpání zdrojů a životního prostředí mezi tzv.“bohatým Severem“ a „chudým Jihem“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3348000" y="260280"/>
            <a:ext cx="1224000" cy="3889440"/>
          </a:xfrm>
          <a:prstGeom prst="upArrow">
            <a:avLst>
              <a:gd name="adj1" fmla="val 50000"/>
              <a:gd name="adj2" fmla="val 7944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 rot="10800000">
            <a:off x="1547640" y="4076640"/>
            <a:ext cx="2160720" cy="1152720"/>
          </a:xfrm>
          <a:prstGeom prst="rightArrow">
            <a:avLst>
              <a:gd name="adj1" fmla="val 50000"/>
              <a:gd name="adj2" fmla="val 46861"/>
            </a:avLst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284720" y="4076640"/>
            <a:ext cx="2160360" cy="1081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421160" y="1989000"/>
            <a:ext cx="44755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ahoma"/>
              </a:rPr>
              <a:t>Mezigenerační spravedln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ahoma"/>
              </a:rPr>
              <a:t>= vertikální rozměr v č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869760" y="5373720"/>
            <a:ext cx="80690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Spravedlnost mezi vyspělými a rozvojovými zeměm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= horizontální spravedlnost v prostor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ffff"/>
                </a:solidFill>
                <a:latin typeface="Tahoma"/>
              </a:rPr>
              <a:t>Koncept TUR zahrnuje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04920" y="1295280"/>
            <a:ext cx="8610480" cy="545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Tahoma"/>
              </a:rPr>
              <a:t>problematiku neobnovitelných zdrojů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Tahoma"/>
              </a:rPr>
              <a:t>problematiku životního prostřed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Tahoma"/>
              </a:rPr>
              <a:t>problematiku světové výživy a  růstu světové populac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3366"/>
                </a:solidFill>
                <a:uFillTx/>
                <a:latin typeface="Tahoma"/>
              </a:rPr>
              <a:t>Problematika životního prostředí pak zahrnuje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globální problém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národní a lokální problém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problémy spojené s fungováním daného odvětv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Globální problémy životního prostřed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1905120"/>
            <a:ext cx="8534160" cy="45439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globální oteplování - skleníkový efek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arušování ozónové vrstv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yselé deště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hrožení a snižování biodivers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úbytek zdrojů pitné vod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ntaminace vo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egradace půd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ůst spotřeby zdroj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dukce odpad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hrožení ekologického servisu přírod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erovnoměrný ekonomický vývoj Sever-Ji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ncentrace obyvatel v mega-měste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Picture 5" descr="globa"/>
          <p:cNvPicPr/>
          <p:nvPr/>
        </p:nvPicPr>
        <p:blipFill>
          <a:blip r:embed="rId1"/>
          <a:stretch/>
        </p:blipFill>
        <p:spPr>
          <a:xfrm>
            <a:off x="22860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ffff"/>
                </a:solidFill>
                <a:latin typeface="Tahoma"/>
              </a:rPr>
              <a:t>Osno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17680" y="1676520"/>
            <a:ext cx="8321400" cy="38214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Definice environmentální politik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Trvale udržitelný rozvoj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Globální problém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Oceňování životního prostředí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Zahrnutí environmentálních dopadů do HD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Nástroje nadnárodní environmentální politik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Nástroje národní environmentální politiky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Vztah zemědělství a životního prostředí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6916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27"/>
          <p:cNvSpPr/>
          <p:nvPr/>
        </p:nvSpPr>
        <p:spPr>
          <a:xfrm>
            <a:off x="3419640" y="1700280"/>
            <a:ext cx="28796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6156360" y="2997360"/>
            <a:ext cx="22320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3635280" y="1916280"/>
            <a:ext cx="28800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Text Box 1030"/>
          <p:cNvSpPr/>
          <p:nvPr/>
        </p:nvSpPr>
        <p:spPr>
          <a:xfrm>
            <a:off x="826920" y="3573360"/>
            <a:ext cx="13687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Line 1031"/>
          <p:cNvSpPr/>
          <p:nvPr/>
        </p:nvSpPr>
        <p:spPr>
          <a:xfrm flipV="1">
            <a:off x="5508720" y="4581360"/>
            <a:ext cx="7189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Line 1032"/>
          <p:cNvSpPr/>
          <p:nvPr/>
        </p:nvSpPr>
        <p:spPr>
          <a:xfrm flipH="1">
            <a:off x="5076360" y="4581360"/>
            <a:ext cx="115092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burning_earth"/>
          <p:cNvPicPr/>
          <p:nvPr/>
        </p:nvPicPr>
        <p:blipFill>
          <a:blip r:embed="rId1"/>
          <a:stretch/>
        </p:blipFill>
        <p:spPr>
          <a:xfrm>
            <a:off x="1182600" y="0"/>
            <a:ext cx="67788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Čerpání zdrojů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V letech 1973-1993 růst spotřeby energie o 40%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Od roku 1950 pětkrát vyšší spotřeba fosilních paliv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Od roku 1960 dvakrát vyšší spotřeba vody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Od roku 1960 čtyřnásobné zvýšení objemu rybolovu v mořích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Za posledních 25 let vzrůst spotřeba dřeva o 40%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10% zemského povrchu tvoří degradovaná půda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2 mld. lidí mají omezenou nebo žádnou příležitost využívat elektrickou energii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20% lidstva má problémy s přístupem k pitné vodě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50% lidstva má problémy s přístupem k zdravotnickému či hygienickému zařízení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Tahoma"/>
                <a:ea typeface="Tahoma"/>
              </a:rPr>
              <a:t>Produkce odpadů</a:t>
            </a: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762120" y="2060640"/>
          <a:ext cx="7772400" cy="446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060640"/>
                    <a:ext cx="77724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8"/>
          <p:cNvSpPr/>
          <p:nvPr/>
        </p:nvSpPr>
        <p:spPr>
          <a:xfrm>
            <a:off x="1523880" y="1066680"/>
            <a:ext cx="6705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Roční produkce odpadů v ČR</a:t>
            </a: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(podle skupin OKEČ, r. 2000, v tis. 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ecff"/>
                </a:solidFill>
                <a:latin typeface="Tahoma"/>
              </a:rPr>
              <a:t>Nerovnoměrný populační a ekonomický vývoj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Picture 9" descr="worldpop"/>
          <p:cNvPicPr/>
          <p:nvPr/>
        </p:nvPicPr>
        <p:blipFill>
          <a:blip r:embed="rId2"/>
          <a:stretch/>
        </p:blipFill>
        <p:spPr>
          <a:xfrm>
            <a:off x="684360" y="1679400"/>
            <a:ext cx="7704000" cy="5178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11" name="Text Box 10"/>
          <p:cNvSpPr/>
          <p:nvPr/>
        </p:nvSpPr>
        <p:spPr>
          <a:xfrm>
            <a:off x="4499640" y="4437000"/>
            <a:ext cx="254304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7 753 0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obyvatel k 20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325240" y="1989000"/>
            <a:ext cx="5302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voj světové populace 1950-205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Nerovnoměrný populační a ekonomický vývoj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0880" y="1447920"/>
            <a:ext cx="81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Víte, co je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větová vesnice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“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 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09480" y="2057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Kdyby celý svět byl vesnicí s 1000 obyvateli, byla by tvořen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09480" y="3006720"/>
          <a:ext cx="8153640" cy="38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06720"/>
                    <a:ext cx="815364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0" y="0"/>
          <a:ext cx="7467480" cy="37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46748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2438280" y="3436920"/>
          <a:ext cx="6705720" cy="342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436920"/>
                    <a:ext cx="670572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Z 1000 obyvate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28600" y="762120"/>
            <a:ext cx="8686800" cy="558036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by třetinu tvořily děti a jen 60 lidí by bylo starších než 65 le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jen třetina by měla přístup k čisté vodě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polovina dospělých by byla negramotných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,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pouze jeden by byl vysokoškolsky vzdělan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bylo by zde 5 vojáků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, 7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učitelů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,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jen 1 lékař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, 3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uprchlíc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80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lidí by žilo v jednoduchých chatrčích nebo by byli bez přístřeší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pouze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70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by vlastnilo auto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(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ale někteří z nich by jich měli více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nikdo by neměl přístup k počítač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polovina lidí by trpěla podvýživo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každoročně by zemřelo 10 lidí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(3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z hladovění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, 1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na rakovinu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, 1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na AI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DS), 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narodilo by se 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28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dětí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, </a:t>
            </a:r>
            <a:r>
              <a:rPr b="1" lang="cs-CZ" sz="2400" spc="-1" strike="noStrike">
                <a:solidFill>
                  <a:srgbClr val="0000cc"/>
                </a:solidFill>
                <a:latin typeface="Tahoma"/>
              </a:rPr>
              <a:t>takže populace by neustále rostl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Z 1000 obyvate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457200" y="1600200"/>
            <a:ext cx="839772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200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lidí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dostává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80 %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příjmů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iných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20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dostává jen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2 %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příjmů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533520" y="3200400"/>
            <a:ext cx="8321400" cy="3324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e vesnici připadá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6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rů půdy na obyvatel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o j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6000 a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krů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celkem, z toho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11.7 %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obdělavatelné půd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23.3 %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pa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stvi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31.7 %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lesů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33.3 %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pouští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, tund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,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astavěných a jiných neobdělávatelných plo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Dva základní přístupy ke globální ekologické politi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24000" y="1844640"/>
            <a:ext cx="8534160" cy="4420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Tahoma"/>
              </a:rPr>
              <a:t>Reformismus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e možná harmonie mezi ekonomickým růstem a životním prostředí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usilují o rozvoj technologi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dominantní přístup zastávaný nejmocnějšími aktéry globální ekonomie (vlády, nadnárodní, mezinárodní instituce - WB, IMF, rozvojové bank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ejich politika je v podstatě vyjádřena v Agendě 21 a dalších dokumente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0000"/>
                </a:solidFill>
                <a:latin typeface="Tahoma"/>
              </a:rPr>
              <a:t>Definice environmentální politiky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989000"/>
            <a:ext cx="8561160" cy="44809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66"/>
                </a:solidFill>
                <a:latin typeface="Script MT Bold"/>
              </a:rPr>
              <a:t>Ekologickou politiku lze definovat jako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66"/>
                </a:solidFill>
                <a:latin typeface="Script MT Bold"/>
              </a:rPr>
              <a:t>široce koordinovanou činnost institucí a občanů, vládních a nevládních organizací, veřejné správy, obecné samosprávy a výrobních organizací, zaměřenou na nastolování vztahů rovnováhy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66"/>
                </a:solidFill>
                <a:latin typeface="Script MT Bold"/>
              </a:rPr>
              <a:t>mezi lidskými činnostmi, uspokojováním potřeb současných i budoucích generací a schopností přírody se znovu obnovovat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Dva základní přístupy ke globální ekologické politi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676520"/>
            <a:ext cx="8534520" cy="4847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cc00"/>
                </a:solidFill>
                <a:uFillTx/>
                <a:latin typeface="Tahoma"/>
              </a:rPr>
              <a:t>Reformátorský přístup</a:t>
            </a:r>
            <a:r>
              <a:rPr b="1" lang="cs-CZ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astávaný nevládními organizacemi, místními iniciativami, organizacemi občanské společnosti, ekologickými iniciativam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lokální a osobní zodpovědnost, projekty trvale udržitelných komuni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řešením globálních problémů není další růst, ale stagnace či pok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nechuť k novým technologiím, kritizují přetechnizování společnos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nedůvěra k nadnárodním institucí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Obecné nástroje environmentální politi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cc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Informační</a:t>
            </a:r>
            <a:r>
              <a:rPr b="0" lang="cs-CZ" sz="3200" spc="-1" strike="noStrike">
                <a:solidFill>
                  <a:srgbClr val="ffff99"/>
                </a:solidFill>
                <a:latin typeface="Tahoma"/>
              </a:rPr>
              <a:t> -  formulování environmentální politiky, konkurenční nástroj mezi podnik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cc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Regulativní</a:t>
            </a:r>
            <a:r>
              <a:rPr b="0" lang="cs-CZ" sz="3200" spc="-1" strike="noStrike">
                <a:solidFill>
                  <a:srgbClr val="ffff99"/>
                </a:solidFill>
                <a:latin typeface="Tahoma"/>
              </a:rPr>
              <a:t> - právní rámec, sank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cc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Ekonomické</a:t>
            </a:r>
            <a:r>
              <a:rPr b="0" lang="cs-CZ" sz="3200" spc="-1" strike="noStrike">
                <a:solidFill>
                  <a:srgbClr val="ffff99"/>
                </a:solidFill>
                <a:latin typeface="Tahoma"/>
              </a:rPr>
              <a:t> -finančně zvýhodňují/znevýhodňují určité činnost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cc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Tržní</a:t>
            </a:r>
            <a:r>
              <a:rPr b="0" lang="cs-CZ" sz="3200" spc="-1" strike="noStrike">
                <a:solidFill>
                  <a:srgbClr val="ffff99"/>
                </a:solidFill>
                <a:latin typeface="Tahoma"/>
              </a:rPr>
              <a:t> - ekonomické nástroje procházející trh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Indikátory udržitelného rozvoj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Soubory ukazatelů k měření a mezinárodní srovnatelnosti úrovně trvalé udržitelnosti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Soubor indikátorů udržitelného rozvoje pro Českou republiku byl navržen na základě rozsáhlé analýzy mezinárodních vzorů. Indikátory byly vybrány tak, aby je bylo možno naplnit daty z existujících datových souborů. Zahrnují jak typy titulkových indikátorů, tak indikátorů do větší či menší míry agregovaných. Výsledný soubor zahrnuje 63 indikátorů, rozdělených do 3 skupi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 2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Skupiny indikátorů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environmentální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sociální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ekonomické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Environmentální indikátory</a:t>
            </a:r>
            <a:br>
              <a:rPr sz="4000"/>
            </a:br>
            <a:r>
              <a:rPr b="0" lang="cs-CZ" sz="2800" spc="-1" strike="noStrike">
                <a:solidFill>
                  <a:srgbClr val="ccffff"/>
                </a:solidFill>
                <a:latin typeface="Tahoma"/>
              </a:rPr>
              <a:t>(počet dílčích ukazatelů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518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Mezinárodní smlouvy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1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Emise skleníkových plynů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5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Emise okyselujících látek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9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Emise tuhých znečišťujících látek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5"/>
              </a:rPr>
              <a:t>Index kvality ovzduší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2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6"/>
              </a:rPr>
              <a:t>Intenzita využití vody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7"/>
              </a:rPr>
              <a:t>Roční odběry vody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4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8"/>
              </a:rPr>
              <a:t>Biochemická spotřeba kyslíku ve vodách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2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9"/>
              </a:rPr>
              <a:t>Fosfor a dusík v povrchových vodách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0"/>
              </a:rPr>
              <a:t>Čištění odpadních vod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4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1"/>
              </a:rPr>
              <a:t>Rozloha zemědělské půdy a ekologické zemědělství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5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2"/>
              </a:rPr>
              <a:t>Spotřeba hnojiv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4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3"/>
              </a:rPr>
              <a:t>Spotřeba pesticidů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4"/>
              </a:rPr>
              <a:t>Těžba neobnovitelných surovin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5"/>
              </a:rPr>
              <a:t>Zastavěná plocha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6"/>
              </a:rPr>
              <a:t>Rozloha lesů s rozlišením druhové skladby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6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7"/>
              </a:rPr>
              <a:t>Kalamitní těžba dřeva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2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8"/>
              </a:rPr>
              <a:t>Intenzita těžby dřeva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4) </a:t>
            </a: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19"/>
              </a:rPr>
              <a:t>Produkce a zneškodňování odpadů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5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20"/>
              </a:rPr>
              <a:t>Produkce nebezpečných odpadů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5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21"/>
              </a:rPr>
              <a:t>Recyklace odpadů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22"/>
              </a:rPr>
              <a:t>Rozloha chráněných území na ploše státu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23"/>
              </a:rPr>
              <a:t>Ohrožené druhy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2) 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99ccff"/>
                </a:solidFill>
                <a:uFillTx/>
                <a:latin typeface="Tahoma"/>
                <a:hlinkClick r:id="rId24"/>
              </a:rPr>
              <a:t>Výdaje na ochranu životního prostředí</a:t>
            </a:r>
            <a:r>
              <a:rPr b="1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(4)</a:t>
            </a:r>
            <a:r>
              <a:rPr b="0" lang="cs-CZ" sz="1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Sociální indikátory</a:t>
            </a:r>
            <a:br>
              <a:rPr sz="4000"/>
            </a:br>
            <a:r>
              <a:rPr b="0" lang="cs-CZ" sz="2800" spc="-1" strike="noStrike">
                <a:solidFill>
                  <a:srgbClr val="ccffff"/>
                </a:solidFill>
                <a:latin typeface="Tahoma"/>
              </a:rPr>
              <a:t>(počet dílčích ukazatelů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24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Míra nezaměstnanosti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4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Míra závislosti nepracujících obyvatel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Podíl městské populace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r>
              <a:rPr b="0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Hustota obyvatelstva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5"/>
              </a:rPr>
              <a:t>Střední délka života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6"/>
              </a:rPr>
              <a:t>Výdaje na zdravotnictví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3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7"/>
              </a:rPr>
              <a:t>Evidované trestné činy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4) </a:t>
            </a:r>
            <a:r>
              <a:rPr b="0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8"/>
              </a:rPr>
              <a:t>Komunikační infrastruktura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4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9"/>
              </a:rPr>
              <a:t>Výdaje domácností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4) </a:t>
            </a:r>
            <a:r>
              <a:rPr b="0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10"/>
              </a:rPr>
              <a:t>Výdaje na výzkum a vývoj</a:t>
            </a:r>
            <a:r>
              <a:rPr b="1" lang="cs-CZ" sz="2400" spc="-1" strike="noStrike" u="sng">
                <a:solidFill>
                  <a:srgbClr val="ccecff"/>
                </a:solidFill>
                <a:uFillTx/>
                <a:latin typeface="Tahoma"/>
              </a:rPr>
              <a:t> (4)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Ekonomické indikátory</a:t>
            </a:r>
            <a:br>
              <a:rPr sz="4000"/>
            </a:br>
            <a:r>
              <a:rPr b="0" lang="cs-CZ" sz="2800" spc="-1" strike="noStrike">
                <a:solidFill>
                  <a:srgbClr val="ccffff"/>
                </a:solidFill>
                <a:latin typeface="Tahoma"/>
              </a:rPr>
              <a:t>(počet dílčích ukazatelů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81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rubý domácí produkt</a:t>
            </a: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 (5) 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Míra inflace</a:t>
            </a: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 (6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Veřejný dluh (7) 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Bilance zahraničního obchodu (8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Zahraniční zadluženost (3) 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Roční spotřeba energie (4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Přímá materiálová spotřeba (5) 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Intenzita spotřeby materiálů (4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Zahraniční cestovní ruch (5) 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Přepravní objemy osobní dopravy (4)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Ekologická stop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35560"/>
          </a:xfrm>
          <a:prstGeom prst="rect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ahoma"/>
              </a:rPr>
              <a:t>Ekologická stopa je pojem vytvořený k hodnocení míry, do níž lidé čerpají zdroje Země a zatěžuji ji odpad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Je výrazem toho, do jaké míry žijeme ekologicky udržitelně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Ekologická stop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35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nto pojem byl vytvořen v roce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1996  William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m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Reese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m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a Mathias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m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Wackernagel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m a byl poprvé publikován v jejich knize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Our Ecological Footprint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 (Naše ekologická stopa)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Ekologická stop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403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E</a:t>
            </a:r>
            <a:r>
              <a:rPr b="1" lang="cs-CZ" sz="2800" spc="-1" strike="noStrike">
                <a:solidFill>
                  <a:srgbClr val="ccecff"/>
                </a:solidFill>
                <a:latin typeface="Tahoma"/>
              </a:rPr>
              <a:t>kologická stopa se vyjadřuje v tzv. Globálních hektarech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Jeden globální hektar je hektar s průměrnou schopností produkovat zdroje a absorbovat odpad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V současné době je ekologická stopa Země větší než její biologická kapacita – jinak řečeno, oři svém způsobu života, produkce a spotřeby bychom potřebovali několik planet, máme však jen jednu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Žijeme tedy ekologicky na dlu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cFootprint"/>
          <p:cNvPicPr/>
          <p:nvPr/>
        </p:nvPicPr>
        <p:blipFill>
          <a:blip r:embed="rId1"/>
          <a:stretch/>
        </p:blipFill>
        <p:spPr>
          <a:xfrm>
            <a:off x="1228680" y="0"/>
            <a:ext cx="668664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Bookman Old Style"/>
              </a:rPr>
              <a:t>Vývoj environmentální politi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Od počátků lidské civilizace ojedinělé pokusy o prosazování ohleduplnějšího chování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Přelom 18. a 19. století – T. Malthus: rozpor mezi geometricky rostoucí populací a aritmeticky rostoucí zemědělskou výrobou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19. století – první přírodní rezervace v Evropě, v 80. letech první národní park v USA (Yellowstone); hnutí ochránců zvířat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Počátek 20. století – objevuje se problematika čistoty ovzduší (objevují se pojmy kyselé deště, smog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Počátek 60. let – environmentální degradace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Počátek 70. let – zájem lidstva o ŽP – první konference a jednání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900000" y="528480"/>
            <a:ext cx="7559640" cy="632952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3"/>
          <p:cNvSpPr/>
          <p:nvPr/>
        </p:nvSpPr>
        <p:spPr>
          <a:xfrm>
            <a:off x="271440" y="115920"/>
            <a:ext cx="84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Ekologická stopa Země jako celku, prognózy do r.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20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735480" y="11592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Ekologická stopa/1 obyvatele 2009 – 10 TOP zemí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68360" y="679320"/>
            <a:ext cx="7994520" cy="6178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Oceňování životního prostřed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1752480"/>
            <a:ext cx="8610480" cy="478656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ákladním problémem zivotního prostředí je otázka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Tahoma"/>
              </a:rPr>
              <a:t>internalizace externalit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j.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ahrnutí odhadnutých negativních dopadů na životní prostředí do ceny výrobku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Jak lze ocenit zivotní prostředí a škody na něm působené 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ahoma"/>
              </a:rPr>
              <a:t>Uzívané metody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Hedonické oceňován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Metoda cestovních nákladů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Kontingenční oceňován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principy WTP a WT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Oceňování životního prostřed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24000" y="1557360"/>
            <a:ext cx="8305560" cy="50292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Hedonické oceňování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cc"/>
                </a:solidFill>
                <a:latin typeface="Tahoma"/>
              </a:rPr>
              <a:t>metoda vyvinuta Grilichesem a Rosenem, 1974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3000" spc="-1" strike="noStrike">
                <a:solidFill>
                  <a:srgbClr val="0000cc"/>
                </a:solidFill>
                <a:latin typeface="Tahoma"/>
              </a:rPr>
              <a:t>implicitní cena trhem neprocházející externality je stanovena na základě ceny zboží v těsné relaci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říklad:</a:t>
            </a:r>
            <a:r>
              <a:rPr b="1" i="1" lang="cs-CZ" sz="3200" spc="-1" strike="noStrike">
                <a:solidFill>
                  <a:srgbClr val="000000"/>
                </a:solidFill>
                <a:latin typeface="Tahoma"/>
              </a:rPr>
              <a:t> cena domu nebo pozemku se mění v závislosti na kvalitě životního prostřed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i="1" lang="cs-CZ" sz="3600" spc="-1" strike="noStrike">
                <a:solidFill>
                  <a:srgbClr val="ff0000"/>
                </a:solidFill>
                <a:latin typeface="Tahoma"/>
              </a:rPr>
              <a:t>P = P(X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Příklad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ahoma"/>
              </a:rPr>
              <a:t>V městské části Praha-Suchdol je dosud dobré životní prostředí a ceny domů, bytů, stavebních pozemků jsou zde relativně vysoké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ahoma"/>
              </a:rPr>
              <a:t>Plán Pražského okruhu však počítá s obchvatovou komunikací a tunelem vedoucími přes Suchdol, takže životní prostředí by se výrazně zhjoršil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ahoma"/>
              </a:rPr>
              <a:t>Kdybychom porovnali ceny domů, bytů a stavebních pozemků před a po této změně, vyloučili statistickou metodou ostatní vlivy (inflace, ekonomická krize), lze z existujícího modelu spočítat cenu negativní změny životního prostředí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Oceňování životního prostřed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04920" y="2133720"/>
            <a:ext cx="8305560" cy="39319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Metoda cestovních nákladů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cs-CZ" sz="3000" spc="-1" strike="noStrike">
                <a:solidFill>
                  <a:srgbClr val="0000cc"/>
                </a:solidFill>
                <a:latin typeface="Tahoma"/>
              </a:rPr>
              <a:t>poprvé použita Hotellingem v r. 1931 a následně rozvinuta Clawsonem v r.1959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3000" spc="-1" strike="noStrike">
                <a:solidFill>
                  <a:srgbClr val="0000cc"/>
                </a:solidFill>
                <a:latin typeface="Tahoma"/>
              </a:rPr>
              <a:t>cena trhem neprocházející rekreační nebo kulturní hodnoty je stanovena na základě cestovních nákladů, které je uživatel ochoten platit 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3000" spc="-1" strike="noStrike">
                <a:solidFill>
                  <a:srgbClr val="0000cc"/>
                </a:solidFill>
                <a:latin typeface="Tahoma"/>
              </a:rPr>
              <a:t>často využívána v USA, Kanadě, Austrálii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Oceňování životního prostřed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50920" y="1773360"/>
            <a:ext cx="8588160" cy="3750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Kontingenční oceňování</a:t>
            </a:r>
            <a:r>
              <a:rPr b="1" i="1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využívá data získaná z dotazníků nebo formou osobního, telefonického, e-mailového interview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odhaduje se </a:t>
            </a:r>
            <a:r>
              <a:rPr b="1" i="1" lang="cs-CZ" sz="2800" spc="-1" strike="noStrike">
                <a:solidFill>
                  <a:srgbClr val="ff0000"/>
                </a:solidFill>
                <a:latin typeface="Tahoma"/>
              </a:rPr>
              <a:t>WTP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 pro zlepšení nebo </a:t>
            </a:r>
            <a:r>
              <a:rPr b="1" i="1" lang="cs-CZ" sz="2800" spc="-1" strike="noStrike">
                <a:solidFill>
                  <a:srgbClr val="ff0000"/>
                </a:solidFill>
                <a:latin typeface="Tahoma"/>
              </a:rPr>
              <a:t>WTA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 pro zhoršení určitého prvku životního prostředí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cs-CZ" sz="2800" spc="-1" strike="noStrike">
                <a:solidFill>
                  <a:srgbClr val="0000cc"/>
                </a:solidFill>
                <a:latin typeface="Tahoma"/>
              </a:rPr>
              <a:t>v ČR použita IVVM v roce 1995 (representativní vzorek 804 respondentů) ve vztahu ke kvalitě vzduchu a pitné vod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Oceňování životního prostřed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920" y="1752480"/>
            <a:ext cx="8534160" cy="48481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WTP = Willingness To Pa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(Ochota platit)</a:t>
            </a:r>
            <a:r>
              <a:rPr b="1" lang="cs-CZ" sz="3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měří se, kolik jsou lidé ochotni zaplatit v absolutním vyjádření nebo v % svého příjmu za zlepšení životního prostřed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WTA = Willingness To Accept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                   </a:t>
            </a: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(Ochota přijmout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měří se, kolik jsou lidé ochotni přijmout jako kompenzaci za zhoršení (nezlepšení)  životního prostřed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Zahrnutí</a:t>
            </a:r>
            <a:r>
              <a:rPr b="1" lang="cs-CZ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environmentálních dopadů do HDP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4000" y="1989000"/>
            <a:ext cx="8305560" cy="448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Jak známo, jedním ze základních problémů vyjadřování ekonomické výkonnosti a úrovně prostřednictvím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HDP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 je, že nezohledňuje negativní environmentální dopady, ale zahrnuje činnosti spojené s jejich odstraněním.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ůže tak paradoxně dojít k situaci, kdy výsledkem ekologické katastrofy je růst HD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55640" y="62064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cc0000"/>
                </a:solidFill>
                <a:latin typeface="Tahoma"/>
              </a:rPr>
              <a:t>Připomeňme si                              případ…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505320"/>
            <a:ext cx="9144000" cy="1922400"/>
          </a:xfrm>
          <a:prstGeom prst="rect">
            <a:avLst/>
          </a:prstGeom>
          <a:solidFill>
            <a:srgbClr val="ccffcc"/>
          </a:solidFill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...havárie obřího tankeru EXXON VALDEZ u Blight Reef, Aljaška,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24. března 1989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Do moře a na pobřeží chráněné oblasti se zde naráz vylilo 10,8 milionů galonů rop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ff"/>
                </a:solidFill>
                <a:latin typeface="Tahoma"/>
              </a:rPr>
              <a:t>Anglikánský pastor</a:t>
            </a:r>
            <a:r>
              <a:rPr b="0" lang="cs-CZ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ccffff"/>
                </a:solidFill>
                <a:latin typeface="Tahoma"/>
              </a:rPr>
              <a:t>        </a:t>
            </a:r>
            <a:r>
              <a:rPr b="1" lang="cs-CZ" sz="4000" spc="-1" strike="noStrike">
                <a:solidFill>
                  <a:srgbClr val="ccffff"/>
                </a:solidFill>
                <a:latin typeface="Tahoma"/>
              </a:rPr>
              <a:t>Thomas Robert Malthus</a:t>
            </a:r>
            <a:r>
              <a:rPr b="0" lang="cs-CZ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cs-CZ" sz="3200" spc="-1" strike="noStrike">
                <a:solidFill>
                  <a:srgbClr val="ccffff"/>
                </a:solidFill>
                <a:latin typeface="Tahoma"/>
              </a:rPr>
              <a:t>(1766-1834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cs-CZ" sz="1600" spc="-1" strike="noStrike">
                <a:solidFill>
                  <a:srgbClr val="ccecff"/>
                </a:solidFill>
                <a:latin typeface="Tahoma"/>
              </a:rPr>
              <a:t>se zabýval příčinami negativních důsledků průmyslové revoluce v Anglii — růstem městské chudiny, nezaměstnanosti, kriminality. Při svém studiu vycházel ze zlomku pozorování růstu obyvatelstva v oblastech Severní Ameriky kolonizovaných Angličany, které získával od  Benjamina Franklina a dospěl k průlomové teorii, kterou zveřejnil v roce 1798 v </a:t>
            </a:r>
            <a:r>
              <a:rPr b="1" i="1" lang="cs-CZ" sz="1800" spc="-1" strike="noStrike">
                <a:solidFill>
                  <a:srgbClr val="ff0000"/>
                </a:solidFill>
                <a:latin typeface="Tahoma"/>
              </a:rPr>
              <a:t>Eseji o principu populace</a:t>
            </a:r>
            <a:r>
              <a:rPr b="1" lang="cs-CZ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Tahoma"/>
              </a:rPr>
              <a:t>(An essay on the principle of population, or a view of its past and present effects on human happiness)</a:t>
            </a:r>
            <a:r>
              <a:rPr b="1" lang="cs-CZ" sz="18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cs-CZ" sz="1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ecff"/>
                </a:solidFill>
                <a:latin typeface="Tahoma"/>
              </a:rPr>
              <a:t>Podstatou této populační teorie je, že počet obyvatel má tendenci růst geometrickou řadou, kdežto množství disponibilních potravin jen řadou aritmetickou. Za přirozené činitele, regulující tento stav považoval hlad, války a epidemie a jako jeden z prvních doporučoval regulaci porodnosti („morální omezení rozmnožovacího pudu“).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ecff"/>
                </a:solidFill>
                <a:latin typeface="Tahoma"/>
              </a:rPr>
              <a:t>Jeho populační teorie se stala jedním ze základních kamenů klasické ekonomie. Inspiroval Davida Ricarda při jeho úvahách o trvalé udržitelnosti růstu. Klíčový vliv měl také na spoluzakladatele moderní vývojové teorie Charlese Darwina a Alfreda Russela Wallace.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ecff"/>
                </a:solidFill>
                <a:latin typeface="Tahoma"/>
              </a:rPr>
              <a:t>Ovlivnil také Francise Placea, jehož neomalthusiánské hnutí bylo prvním, které obhajovalo nutnost antikoncepce. Ačkoliv populační teorie byla podrobena kritice již v druhé polovině 19. století (Malthus nebral v úvahu technologický pokrok v zemědělství), myšlenka tzv. malthusiánství zůstává živá dodnes.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ecff"/>
                </a:solidFill>
                <a:latin typeface="Tahoma"/>
              </a:rPr>
              <a:t>Jako zcela nezpochybnitelný zůstává hlavní Malthusův přínos: životní úroveň lidí závisí vedle hospodářského vývoje i na vývoji populačním.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55" name="Picture 5" descr="malthus"/>
          <p:cNvPicPr/>
          <p:nvPr/>
        </p:nvPicPr>
        <p:blipFill>
          <a:blip r:embed="rId1"/>
          <a:stretch/>
        </p:blipFill>
        <p:spPr>
          <a:xfrm>
            <a:off x="0" y="0"/>
            <a:ext cx="1508040" cy="213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762120" y="914400"/>
            <a:ext cx="7848360" cy="131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66"/>
                </a:solidFill>
                <a:latin typeface="Tahoma"/>
              </a:rPr>
              <a:t>Následky katastrofy nejsou plně odstraněny dosud, ale…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22240" y="2739960"/>
            <a:ext cx="7712280" cy="31413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1" lang="cs-CZ" sz="4000" spc="-1" strike="noStrike">
                <a:solidFill>
                  <a:srgbClr val="000066"/>
                </a:solidFill>
                <a:latin typeface="Tahoma"/>
              </a:rPr>
              <a:t>bezprostředním výsledkem byl </a:t>
            </a:r>
            <a:r>
              <a:rPr b="1" lang="cs-CZ" sz="4000" spc="-1" strike="noStrike" u="sng">
                <a:solidFill>
                  <a:srgbClr val="ff0000"/>
                </a:solidFill>
                <a:uFillTx/>
                <a:latin typeface="Tahoma"/>
              </a:rPr>
              <a:t>nárůst HDP USA o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ff0000"/>
                </a:solidFill>
                <a:uFillTx/>
                <a:latin typeface="Tahoma"/>
              </a:rPr>
              <a:t>4 mld $</a:t>
            </a:r>
            <a:r>
              <a:rPr b="1" lang="cs-CZ" sz="4000" spc="-1" strike="noStrike">
                <a:solidFill>
                  <a:srgbClr val="000066"/>
                </a:solidFill>
                <a:latin typeface="Tahoma"/>
              </a:rPr>
              <a:t> přidané hodnoty z aktivit na odstranění ško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3416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ahoma"/>
              </a:rPr>
              <a:t>Zahrnutí environmentálních dopadů do HDP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1268280"/>
            <a:ext cx="8839080" cy="48488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xistují proto některé koncepty řešící zahrnutí kladných i záporných environmentálních dopadů do ekonomických ukazatelů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atří sem např.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ahoma"/>
              </a:rPr>
              <a:t>NEW - Net Economic Welfare</a:t>
            </a:r>
            <a:r>
              <a:rPr b="1" lang="cs-CZ" sz="24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Čistý ekonomický blahoby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ahoma"/>
              </a:rPr>
              <a:t>GPI - Genuine Progress Indica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Ukazatel věrohodného rozvoj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ahoma"/>
              </a:rPr>
              <a:t>HDI – Human Development Inde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Index lidského rozvoje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ahoma"/>
              </a:rPr>
              <a:t>SEEA - System of Economic and Environmental Accounts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Systém integrovaných ekonomických a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nvironmentálních účtů jako součást SNA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1960" y="133200"/>
            <a:ext cx="686196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Příklad výpočtu GPI v USA (1950/200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684360" y="1197000"/>
            <a:ext cx="7848360" cy="5156280"/>
            <a:chOff x="684360" y="1197000"/>
            <a:chExt cx="7848360" cy="5156280"/>
          </a:xfrm>
        </p:grpSpPr>
        <p:pic>
          <p:nvPicPr>
            <p:cNvPr id="175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197000"/>
              <a:ext cx="7848360" cy="51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5"/>
            <p:cNvSpPr/>
            <p:nvPr/>
          </p:nvSpPr>
          <p:spPr>
            <a:xfrm>
              <a:off x="3059280" y="1413000"/>
              <a:ext cx="324144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3348000" y="2349360"/>
              <a:ext cx="2808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3851280" y="2708280"/>
              <a:ext cx="180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79" name="Text Box 8"/>
          <p:cNvSpPr/>
          <p:nvPr/>
        </p:nvSpPr>
        <p:spPr>
          <a:xfrm>
            <a:off x="684360" y="6381720"/>
            <a:ext cx="74167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droj: http://www.redefiningprogress.org/publications/gpi_march2004update.pdf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Tahoma"/>
              </a:rPr>
              <a:t>Nástroje nadnárodní ekologické politi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52280" y="2590920"/>
            <a:ext cx="8610840" cy="2652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cc00"/>
              </a:buClr>
              <a:buSzPct val="6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Mezinárodní úmluvy o ochraně životního prostřed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cc"/>
                </a:solidFill>
                <a:latin typeface="Tahoma"/>
              </a:rPr>
              <a:t>činnost OSN a dalších nadnárodních organizací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cc"/>
                </a:solidFill>
                <a:latin typeface="Tahoma"/>
              </a:rPr>
              <a:t>problém dohody mezi vyspělými a rozvojovými zeměmi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cc"/>
                </a:solidFill>
                <a:latin typeface="Tahoma"/>
              </a:rPr>
              <a:t>Kjótský protokol (platný od února 2005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Tahoma"/>
              </a:rPr>
              <a:t>Nástroje nadnárodní ekologické politi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2590920"/>
            <a:ext cx="8610840" cy="34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cc00"/>
              </a:buClr>
              <a:buSzPct val="6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pecifické finanční a fiskální nástroj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cc"/>
                </a:solidFill>
                <a:latin typeface="Tahoma"/>
              </a:rPr>
              <a:t>Světový program ochrany životního prostředí   GEF (</a:t>
            </a:r>
            <a:r>
              <a:rPr b="0" i="1" lang="en-GB" sz="2600" spc="-1" strike="noStrike">
                <a:solidFill>
                  <a:srgbClr val="0000cc"/>
                </a:solidFill>
                <a:latin typeface="Tahoma"/>
              </a:rPr>
              <a:t>Global Environment Facility</a:t>
            </a: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) </a:t>
            </a:r>
            <a:r>
              <a:rPr b="0" lang="cs-CZ" sz="2400" spc="-1" strike="noStrike">
                <a:solidFill>
                  <a:srgbClr val="0000cc"/>
                </a:solidFill>
                <a:latin typeface="Tahoma"/>
              </a:rPr>
              <a:t>(12 operativních programů ve 4 oblastech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cc"/>
                </a:solidFill>
                <a:latin typeface="Tahoma"/>
              </a:rPr>
              <a:t>mezinárodní environmentální daně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cc"/>
                </a:solidFill>
                <a:latin typeface="Tahoma"/>
              </a:rPr>
              <a:t>mezinárodní systém obchodovatelných emisních povolení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Liberalizace světového obchodu a udržitelný rozvoj</a:t>
            </a:r>
            <a:br>
              <a:rPr sz="54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2057400"/>
            <a:ext cx="8653320" cy="3993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Kritiky GATT/WTO hovoří o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ahoma"/>
              </a:rPr>
              <a:t>degradaci životního prostředí v exportujících zemí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ahoma"/>
              </a:rPr>
              <a:t>degradaci životního prostředí v importujících zemí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ahoma"/>
              </a:rPr>
              <a:t>obchodu s produkty přímo ohrožujícími životní prostřed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ahoma"/>
              </a:rPr>
              <a:t>transferu neekologických technologi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6" name="Picture 4" descr="logo_wto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248520" y="1066680"/>
            <a:ext cx="2895480" cy="870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delay="indefinite"/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Činnost nevládních organizací a seskupení na mezinárodní úrovn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68360" y="1700280"/>
            <a:ext cx="801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ahoma"/>
              </a:rPr>
              <a:t>V této souvislosti je třeba připomenout jak mezinárodní ekologické organizace ( NGO ) typ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9" name="Picture 4" descr="gptitle"/>
          <p:cNvPicPr/>
          <p:nvPr/>
        </p:nvPicPr>
        <p:blipFill>
          <a:blip r:embed="rId1"/>
          <a:stretch/>
        </p:blipFill>
        <p:spPr>
          <a:xfrm>
            <a:off x="533520" y="3581280"/>
            <a:ext cx="4809960" cy="5144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90" name="Picture 5" descr="kids11s"/>
          <p:cNvPicPr/>
          <p:nvPr/>
        </p:nvPicPr>
        <p:blipFill>
          <a:blip r:embed="rId2"/>
          <a:stretch/>
        </p:blipFill>
        <p:spPr>
          <a:xfrm>
            <a:off x="5508720" y="3213000"/>
            <a:ext cx="3124080" cy="21560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91" name="Text Box 6"/>
          <p:cNvSpPr/>
          <p:nvPr/>
        </p:nvSpPr>
        <p:spPr>
          <a:xfrm>
            <a:off x="254880" y="5373720"/>
            <a:ext cx="8148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ahoma"/>
              </a:rPr>
              <a:t>tak také uznávaná odborná seskupení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ahoma"/>
              </a:rPr>
              <a:t>např.</a:t>
            </a:r>
            <a:r>
              <a:rPr b="0" lang="cs-CZ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ccecff"/>
                </a:solidFill>
                <a:latin typeface="Tahoma"/>
              </a:rPr>
              <a:t>již zmíněný</a:t>
            </a:r>
            <a:r>
              <a:rPr b="1" lang="cs-CZ" sz="4000" spc="-1" strike="noStrike">
                <a:solidFill>
                  <a:srgbClr val="ccecff"/>
                </a:solidFill>
                <a:latin typeface="Tahoma"/>
              </a:rPr>
              <a:t> Římský klub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Nástroje</a:t>
            </a: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 národní ekologické politi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2666880"/>
            <a:ext cx="8077320" cy="3445560"/>
          </a:xfrm>
          <a:prstGeom prst="rect">
            <a:avLst/>
          </a:prstGeom>
          <a:solidFill>
            <a:srgbClr val="ccffff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0000"/>
              </a:buClr>
              <a:buSzPct val="12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právní ráme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ekonomické nástroj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plánová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výchova a vzdělává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12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Nástroje národní ekologické politi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2262240"/>
            <a:ext cx="8381880" cy="3368520"/>
          </a:xfrm>
          <a:prstGeom prst="rect">
            <a:avLst/>
          </a:prstGeom>
          <a:solidFill>
            <a:srgbClr val="ccff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ahoma"/>
              </a:rPr>
              <a:t>Právní ráme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276"/>
              </a:spcAft>
              <a:buClr>
                <a:srgbClr val="0000cc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cc"/>
                </a:solidFill>
                <a:latin typeface="Tahoma"/>
              </a:rPr>
              <a:t>zásada prevence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276"/>
              </a:spcAft>
              <a:buClr>
                <a:srgbClr val="0000cc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cc"/>
                </a:solidFill>
                <a:latin typeface="Tahoma"/>
              </a:rPr>
              <a:t>zásada integrace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276"/>
              </a:spcAft>
              <a:buClr>
                <a:srgbClr val="0000cc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cc"/>
                </a:solidFill>
                <a:latin typeface="Tahoma"/>
              </a:rPr>
              <a:t>zásada odpovědnosti původce  ( </a:t>
            </a:r>
            <a:r>
              <a:rPr b="1" i="1" lang="cs-CZ" sz="3400" spc="-1" strike="noStrike">
                <a:solidFill>
                  <a:srgbClr val="ff0000"/>
                </a:solidFill>
                <a:latin typeface="Tahoma"/>
              </a:rPr>
              <a:t>PPP</a:t>
            </a:r>
            <a:r>
              <a:rPr b="1" i="1" lang="cs-CZ" sz="3400" spc="-1" strike="noStrike">
                <a:solidFill>
                  <a:srgbClr val="0000cc"/>
                </a:solidFill>
                <a:latin typeface="Tahoma"/>
              </a:rPr>
              <a:t> = principle polluter pays )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nodeType="clickEffect" fill="hold">
                      <p:stCondLst>
                        <p:cond delay="indefinite"/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Nástroje národní ekologické politi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1523880"/>
            <a:ext cx="8763120" cy="49694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Ekonomické nástroj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negativní stimulace</a:t>
            </a: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 (poplatky za znečišťování, sankční platby, daně, poplatky za využívání přírodních zdrojů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pozitivní stimulace</a:t>
            </a: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 (daňové zvýhodnění, úlevy na daních a poplatcích, “měkké” úvěry, dotace, grant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tržně orientované nástroje</a:t>
            </a: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 (environmentální pojištění, obchodovatelná emisní povolení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depozitně refundační systém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nodeType="clickEffect" fill="hold">
                      <p:stCondLst>
                        <p:cond delay="indefinite"/>
                      </p:stCondLst>
                      <p:childTnLst>
                        <p:par>
                          <p:cTn id="1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nodeType="clickEffect" fill="hold">
                      <p:stCondLst>
                        <p:cond delay="indefinite"/>
                      </p:stCondLst>
                      <p:childTnLst>
                        <p:par>
                          <p:cTn id="2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Bookman Old Style"/>
              </a:rPr>
              <a:t>Vznik environmentální politiky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1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Tahoma"/>
              </a:rPr>
              <a:t>V 70. letech jako reakce na rozmach environmentálního hnutí v 60. letec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Tahoma"/>
              </a:rPr>
              <a:t>Dva významné impulsy (1972)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cc"/>
                </a:solidFill>
                <a:latin typeface="Tahoma"/>
              </a:rPr>
              <a:t>Konference OSN o životním prostředí</a:t>
            </a: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 člověka ve Stockholmu 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Kniha „</a:t>
            </a:r>
            <a:r>
              <a:rPr b="1" lang="cs-CZ" sz="2600" spc="-1" strike="noStrike">
                <a:solidFill>
                  <a:srgbClr val="0000cc"/>
                </a:solidFill>
                <a:latin typeface="Tahoma"/>
              </a:rPr>
              <a:t>Meze růstu</a:t>
            </a: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“ (Dennis a Donnela Meadows, Římský klub ) – analýza dosavadního i pravděpodobného dalšího vývoje lidské civilizace (exponenciální růst populace x omezené zdroje planety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ahoma"/>
              </a:rPr>
              <a:t>Nástroje národní ekologické politi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8600" y="1371600"/>
            <a:ext cx="8763120" cy="52124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Základní principy využití nástrojů ekologické politiky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cc"/>
                </a:solidFill>
                <a:latin typeface="Tahoma"/>
              </a:rPr>
              <a:t>kombinace pozitivní a negativní stimulace - tzv.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„ metoda cukru a biče  “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cc"/>
                </a:solidFill>
                <a:latin typeface="Tahoma"/>
              </a:rPr>
              <a:t>kombinace právního rámce a tržně orientovaných nástrojů pozitivní stimulac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cc"/>
                </a:solidFill>
                <a:latin typeface="Tahoma"/>
              </a:rPr>
              <a:t>komplexnos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cc"/>
                </a:solidFill>
                <a:latin typeface="Tahoma"/>
              </a:rPr>
              <a:t>zpětná vazba, kontrolní systém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nodeType="clickEffect" fill="hold">
                      <p:stCondLst>
                        <p:cond delay="indefinite"/>
                      </p:stCondLst>
                      <p:childTnLst>
                        <p:par>
                          <p:cTn id="2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nodeType="clickEffect" fill="hold">
                      <p:stCondLst>
                        <p:cond delay="indefinite"/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Bookman Old Style"/>
              </a:rPr>
              <a:t>Vztah zemědělství a životního prostřed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ecff"/>
                </a:solidFill>
                <a:uFillTx/>
                <a:latin typeface="Tahoma"/>
              </a:rPr>
              <a:t>Dopad zemědělství na ŽP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326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Na jednotlivé prvky ŽP (půda, voda, vzduch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326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cecff"/>
                </a:solidFill>
                <a:latin typeface="Tahoma"/>
              </a:rPr>
              <a:t>Na krajinu jako celek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ahoma"/>
              </a:rPr>
              <a:t>Prospěšné účinky 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(obhospodařování krajiny, rozmanitost krajiny, vznik různých forem biodiversity, uchování ohrožených druhů, zmírnění skleníkového efektu fixací CO</a:t>
            </a:r>
            <a:r>
              <a:rPr b="0" lang="cs-CZ" sz="2400" spc="-1" strike="noStrike" baseline="-25000">
                <a:solidFill>
                  <a:srgbClr val="ccecff"/>
                </a:solidFill>
                <a:latin typeface="Tahoma"/>
              </a:rPr>
              <a:t>2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vegetací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ahoma"/>
              </a:rPr>
              <a:t>Negativní účinky</a:t>
            </a: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 (zdroj emisí, znečištění podzemních vod, degradace zemědělské půdy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r>
              <a:rPr b="1" lang="cs-CZ" sz="3200" spc="-1" strike="noStrike" u="sng">
                <a:solidFill>
                  <a:srgbClr val="ccecff"/>
                </a:solidFill>
                <a:uFillTx/>
                <a:latin typeface="Tahoma"/>
              </a:rPr>
              <a:t>Vliv ŽP na zemědělství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ecff"/>
                </a:solidFill>
                <a:latin typeface="Tahoma"/>
              </a:rPr>
              <a:t>Podmiňuje rozvoj zemědělství – poskytuje přírodní zdroj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050" dur="indefinite" restart="never" nodeType="tmRoot">
          <p:childTnLst>
            <p:seq>
              <p:cTn id="2051" dur="indefinite" nodeType="mainSeq">
                <p:childTnLst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nodeType="clickEffect" fill="hold">
                      <p:stCondLst>
                        <p:cond delay="indefinite"/>
                      </p:stCondLst>
                      <p:childTnLst>
                        <p:par>
                          <p:cTn id="2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Bookman Old Style"/>
              </a:rPr>
              <a:t>Způsoby hospodaření</a:t>
            </a:r>
            <a:r>
              <a:rPr b="1" lang="cs-CZ" sz="4400" spc="-1" strike="noStrike">
                <a:solidFill>
                  <a:srgbClr val="ffff66"/>
                </a:solidFill>
                <a:latin typeface="Bookman Old Style"/>
              </a:rPr>
              <a:t> </a:t>
            </a:r>
            <a:br>
              <a:rPr sz="4400"/>
            </a:br>
            <a:r>
              <a:rPr b="1" lang="cs-CZ" sz="3200" spc="-1" strike="noStrike">
                <a:solidFill>
                  <a:srgbClr val="ffff66"/>
                </a:solidFill>
                <a:latin typeface="Bookman Old Style"/>
              </a:rPr>
              <a:t>(zemědělské výroby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ahoma"/>
              </a:rPr>
              <a:t>Konvenční</a:t>
            </a:r>
            <a:r>
              <a:rPr b="0" lang="cs-CZ" sz="2800" spc="-1" strike="noStrike">
                <a:solidFill>
                  <a:srgbClr val="ffff66"/>
                </a:solidFill>
                <a:latin typeface="Tahoma"/>
              </a:rPr>
              <a:t> – klasické zemědělství, převažuje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specializace a koncentrac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vysoké/nadměrné používání průmyslových hnojiv a chemických prostředků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agrotechnické zásahy nejsou v souladu s přírodními cykl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ahoma"/>
              </a:rPr>
              <a:t>ŽV – problémy „animal welfare“ (velkochovy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66"/>
                </a:solidFill>
                <a:uFillTx/>
                <a:latin typeface="Tahoma"/>
              </a:rPr>
              <a:t>Cílem</a:t>
            </a:r>
            <a:r>
              <a:rPr b="0" lang="cs-CZ" sz="2800" spc="-1" strike="noStrike">
                <a:solidFill>
                  <a:srgbClr val="ffff66"/>
                </a:solidFill>
                <a:latin typeface="Tahoma"/>
              </a:rPr>
              <a:t> jsou v prvé řadě  </a:t>
            </a: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maximální výnos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nodeType="clickEffect" fill="hold">
                      <p:stCondLst>
                        <p:cond delay="indefinite"/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Bookman Old Style"/>
              </a:rPr>
              <a:t>Způsoby hospodaření</a:t>
            </a:r>
            <a:r>
              <a:rPr b="1" lang="cs-CZ" sz="4400" spc="-1" strike="noStrike">
                <a:solidFill>
                  <a:srgbClr val="ffff66"/>
                </a:solidFill>
                <a:latin typeface="Bookman Old Style"/>
              </a:rPr>
              <a:t> </a:t>
            </a:r>
            <a:br>
              <a:rPr sz="4400"/>
            </a:br>
            <a:r>
              <a:rPr b="1" lang="cs-CZ" sz="3200" spc="-1" strike="noStrike">
                <a:solidFill>
                  <a:srgbClr val="ffff66"/>
                </a:solidFill>
                <a:latin typeface="Bookman Old Style"/>
              </a:rPr>
              <a:t>(zemědělské výroby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Alternativní</a:t>
            </a:r>
            <a:r>
              <a:rPr b="0" lang="cs-CZ" sz="2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- ekologické</a:t>
            </a:r>
            <a:r>
              <a:rPr b="0" lang="cs-CZ" sz="2200" spc="-1" strike="noStrike">
                <a:solidFill>
                  <a:srgbClr val="ffff66"/>
                </a:solidFill>
                <a:latin typeface="Tahoma"/>
              </a:rPr>
              <a:t> – zásady Mezinárodní federace hnutí organického zemědělství (IFOAM)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Nižší výnos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Vyšší pracovní náklady, nižší náklady na hnojiva a pesticid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Vyšší cen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Rostoucí poptávka po bioprodukte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Podpora státu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66"/>
                </a:solidFill>
                <a:uFillTx/>
                <a:latin typeface="Tahoma"/>
              </a:rPr>
              <a:t>Cíle</a:t>
            </a:r>
            <a:r>
              <a:rPr b="0" lang="cs-CZ" sz="20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produkce dostatečného množství potravin s vysokou kvalitou a nutriční hodnotou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Šetrné zásahy v přírodě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Využívání obnovitelných zdrojů, šetrné využívání neobnovitelných zdrojů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Zlepšit vztah k chovaným zvířatům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ahoma"/>
              </a:rPr>
              <a:t>Odstranit škodlivé dopady zemědělství na ŽP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nodeType="clickEffect" fill="hold">
                      <p:stCondLst>
                        <p:cond delay="indefinite"/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nodeType="clickEffect" fill="hold">
                      <p:stCondLst>
                        <p:cond delay="indefinite"/>
                      </p:stCondLst>
                      <p:childTnLst>
                        <p:par>
                          <p:cTn id="2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nodeType="clickEffect" fill="hold">
                      <p:stCondLst>
                        <p:cond delay="indefinite"/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nodeType="clickEffect" fill="hold">
                      <p:stCondLst>
                        <p:cond delay="indefinite"/>
                      </p:stCondLst>
                      <p:childTnLst>
                        <p:par>
                          <p:cTn id="2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Bookman Old Style"/>
              </a:rPr>
              <a:t>Způsoby hospodaření</a:t>
            </a:r>
            <a:r>
              <a:rPr b="1" lang="cs-CZ" sz="4400" spc="-1" strike="noStrike">
                <a:solidFill>
                  <a:srgbClr val="ffff66"/>
                </a:solidFill>
                <a:latin typeface="Bookman Old Style"/>
              </a:rPr>
              <a:t> </a:t>
            </a:r>
            <a:br>
              <a:rPr sz="4400"/>
            </a:br>
            <a:r>
              <a:rPr b="1" lang="cs-CZ" sz="3200" spc="-1" strike="noStrike">
                <a:solidFill>
                  <a:srgbClr val="ffff66"/>
                </a:solidFill>
                <a:latin typeface="Bookman Old Style"/>
              </a:rPr>
              <a:t>(zemědělské výroby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Integrované</a:t>
            </a:r>
            <a:r>
              <a:rPr b="1" lang="cs-CZ" sz="2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cs-CZ" sz="2600" spc="-1" strike="noStrike">
                <a:solidFill>
                  <a:srgbClr val="ffff66"/>
                </a:solidFill>
                <a:latin typeface="Tahoma"/>
              </a:rPr>
              <a:t>- střední cesta, zachovává konvenční systém hospodaření, ale :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66"/>
                </a:solidFill>
                <a:latin typeface="Tahoma"/>
              </a:rPr>
              <a:t>hnojiva a chemikálie používá jen v nezbytném množství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66"/>
                </a:solidFill>
                <a:latin typeface="Tahoma"/>
              </a:rPr>
              <a:t>mění přístupy k chovu zvířat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66"/>
                </a:solidFill>
                <a:latin typeface="Tahoma"/>
              </a:rPr>
              <a:t>kromě kvantity upřednostňuje i kvalitu produkce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nodeType="clickEffect" fill="hold">
                      <p:stCondLst>
                        <p:cond delay="indefinite"/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ahoma"/>
              </a:rPr>
              <a:t>Environmentální indikátory udržitelného rozvoje ve vztahu k zemědělství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Fosfor a dusík v povrchových vodách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Rozloha zemědělské půdy a ekologické zemědělství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Spotřeba hnojiv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Spotřeba pesticidů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Rozloha lesů s rozlišením druhové skladby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Rozloha chráněných území na ploše státu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ecff"/>
                </a:solidFill>
                <a:latin typeface="Tahoma"/>
              </a:rPr>
              <a:t>Ohrožené druh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Tahoma"/>
              </a:rPr>
              <a:t>Pramen: Portál životního prostředí http://indikatory.env.cz/?checked=1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indefinite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nodeType="clickEffect" fill="hold">
                      <p:stCondLst>
                        <p:cond delay="indefinite"/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nodeType="clickEffect" fill="hold">
                      <p:stCondLst>
                        <p:cond delay="indefinite"/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nodeType="clickEffect" fill="hold">
                      <p:stCondLst>
                        <p:cond delay="indefinite"/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nodeType="clickEffect" fill="hold">
                      <p:stCondLst>
                        <p:cond delay="indefinite"/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nodeType="clickEffect" fill="hold">
                      <p:stCondLst>
                        <p:cond delay="indefinite"/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0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nodeType="clickEffect" fill="hold">
                      <p:stCondLst>
                        <p:cond delay="indefinite"/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528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ccecff"/>
                </a:solidFill>
                <a:uFillTx/>
                <a:latin typeface="Tahoma"/>
              </a:rPr>
              <a:t>Rozloha zemědělské půdy a ekologické zemědělstv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3" name="Obrázek 1" descr=""/>
          <p:cNvPicPr/>
          <p:nvPr/>
        </p:nvPicPr>
        <p:blipFill>
          <a:blip r:embed="rId1"/>
          <a:stretch/>
        </p:blipFill>
        <p:spPr>
          <a:xfrm>
            <a:off x="709560" y="1238400"/>
            <a:ext cx="7796160" cy="5641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ffff"/>
                </a:solidFill>
                <a:latin typeface="Tahoma"/>
              </a:rPr>
              <a:t>Spotřeba hnojiv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16" name="Picture 5" descr="axesgraph"/>
          <p:cNvPicPr/>
          <p:nvPr/>
        </p:nvPicPr>
        <p:blipFill>
          <a:blip r:embed="rId1"/>
          <a:stretch/>
        </p:blipFill>
        <p:spPr>
          <a:xfrm>
            <a:off x="539640" y="1676520"/>
            <a:ext cx="6508800" cy="4606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17" name="Picture 7" descr="axeslegend"/>
          <p:cNvPicPr/>
          <p:nvPr/>
        </p:nvPicPr>
        <p:blipFill>
          <a:blip r:embed="rId2"/>
          <a:stretch/>
        </p:blipFill>
        <p:spPr>
          <a:xfrm>
            <a:off x="7093080" y="6159600"/>
            <a:ext cx="2050920" cy="69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2291" dur="indefinite" restart="never" nodeType="tmRoot">
          <p:childTnLst>
            <p:seq>
              <p:cTn id="2292" dur="indefinite" nodeType="mainSeq">
                <p:childTnLst>
                  <p:par>
                    <p:cTn id="2293" nodeType="clickEffect" fill="hold">
                      <p:stCondLst>
                        <p:cond delay="indefinite"/>
                      </p:stCondLst>
                      <p:childTnLst>
                        <p:par>
                          <p:cTn id="2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ffffcc"/>
                </a:solidFill>
                <a:uFillTx/>
                <a:latin typeface="Tahoma"/>
              </a:rPr>
              <a:t>Spotřeba pesticidů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0" name="Picture 1029" descr="axesgraph"/>
          <p:cNvPicPr/>
          <p:nvPr/>
        </p:nvPicPr>
        <p:blipFill>
          <a:blip r:embed="rId1"/>
          <a:stretch/>
        </p:blipFill>
        <p:spPr>
          <a:xfrm>
            <a:off x="395280" y="1557360"/>
            <a:ext cx="7143840" cy="5132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21" name="Picture 1031" descr="axeslegend"/>
          <p:cNvPicPr/>
          <p:nvPr/>
        </p:nvPicPr>
        <p:blipFill>
          <a:blip r:embed="rId2"/>
          <a:stretch/>
        </p:blipFill>
        <p:spPr>
          <a:xfrm>
            <a:off x="7639200" y="5877000"/>
            <a:ext cx="1504800" cy="98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2303" dur="indefinite" restart="never" nodeType="tmRoot">
          <p:childTnLst>
            <p:seq>
              <p:cTn id="2304" dur="indefinite" nodeType="mainSeq">
                <p:childTnLst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ffff"/>
                </a:solidFill>
                <a:latin typeface="Tahoma"/>
              </a:rPr>
              <a:t>Rozloha a druhová skladba lesů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4" name="Picture 5" descr="axesgraph"/>
          <p:cNvPicPr/>
          <p:nvPr/>
        </p:nvPicPr>
        <p:blipFill>
          <a:blip r:embed="rId1"/>
          <a:stretch/>
        </p:blipFill>
        <p:spPr>
          <a:xfrm>
            <a:off x="108000" y="1217520"/>
            <a:ext cx="6940440" cy="4911840"/>
          </a:xfrm>
          <a:prstGeom prst="rect">
            <a:avLst/>
          </a:prstGeom>
          <a:ln w="28440">
            <a:solidFill>
              <a:srgbClr val="00cc00"/>
            </a:solidFill>
            <a:miter/>
          </a:ln>
        </p:spPr>
      </p:pic>
      <p:pic>
        <p:nvPicPr>
          <p:cNvPr id="225" name="Picture 7" descr="axeslegend"/>
          <p:cNvPicPr/>
          <p:nvPr/>
        </p:nvPicPr>
        <p:blipFill>
          <a:blip r:embed="rId2"/>
          <a:stretch/>
        </p:blipFill>
        <p:spPr>
          <a:xfrm>
            <a:off x="7386480" y="4941720"/>
            <a:ext cx="1757520" cy="191628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</p:spTree>
  </p:cSld>
  <p:transition>
    <p:randomBar dir="horz"/>
  </p:transition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anaMeadows1"/>
          <p:cNvPicPr/>
          <p:nvPr/>
        </p:nvPicPr>
        <p:blipFill>
          <a:blip r:embed="rId1"/>
          <a:stretch/>
        </p:blipFill>
        <p:spPr>
          <a:xfrm>
            <a:off x="6781680" y="228600"/>
            <a:ext cx="2362320" cy="2806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9" name="Picture 3" descr="BeyondTheLimits"/>
          <p:cNvPicPr/>
          <p:nvPr/>
        </p:nvPicPr>
        <p:blipFill>
          <a:blip r:embed="rId2"/>
          <a:stretch/>
        </p:blipFill>
        <p:spPr>
          <a:xfrm>
            <a:off x="7043760" y="3733920"/>
            <a:ext cx="210024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meadows"/>
          <p:cNvPicPr/>
          <p:nvPr/>
        </p:nvPicPr>
        <p:blipFill>
          <a:blip r:embed="rId3"/>
          <a:stretch/>
        </p:blipFill>
        <p:spPr>
          <a:xfrm>
            <a:off x="0" y="0"/>
            <a:ext cx="563868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3276720"/>
            <a:ext cx="6629400" cy="3448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0000"/>
                </a:solidFill>
                <a:latin typeface="Tahoma"/>
              </a:rPr>
              <a:t>Římský klub (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“Club of Rome“) je neformální sdružení původně </a:t>
            </a:r>
            <a:r>
              <a:rPr b="1" lang="cs-CZ" sz="2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0 vědců z 10 zemí, v současné době více než 100 vědců z 35 zemí, založené v dubnu 1968, Accademia dei Lincei v Římě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lub zahájil činnost na projektu</a:t>
            </a:r>
            <a:r>
              <a:rPr b="1" lang="cs-CZ" sz="2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Tahoma"/>
              </a:rPr>
              <a:t>Predicament of Mankind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, vedeném prof. </a:t>
            </a: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Dennisem Meadowsem </a:t>
            </a:r>
            <a:r>
              <a:rPr b="1" lang="cs-CZ" sz="2000" spc="-1" strike="noStrike">
                <a:solidFill>
                  <a:srgbClr val="ff0000"/>
                </a:solidFill>
                <a:latin typeface="Tahoma"/>
              </a:rPr>
              <a:t>a </a:t>
            </a:r>
            <a:r>
              <a:rPr b="1" lang="cs-CZ" sz="2000" spc="-1" strike="noStrike">
                <a:solidFill>
                  <a:srgbClr val="0000cc"/>
                </a:solidFill>
                <a:latin typeface="Tahoma"/>
              </a:rPr>
              <a:t>Donellou Maedowsovou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vní zpráva, publikovaná v roce 1972, se nazývala</a:t>
            </a:r>
            <a:r>
              <a:rPr b="1" lang="cs-CZ" sz="2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cc00"/>
                </a:solidFill>
                <a:latin typeface="Tahoma"/>
              </a:rPr>
              <a:t>The limits to Growth ( Limity růstu 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0000"/>
                </a:solidFill>
                <a:latin typeface="Tahoma"/>
              </a:rPr>
              <a:t>Do současné doby Klub publikoval celkem 5 zpráv a řadu dalších publikací</a:t>
            </a:r>
            <a:r>
              <a:rPr b="1" lang="cs-CZ" sz="18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887800" y="299736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ffcc00"/>
                </a:solidFill>
                <a:latin typeface="Tahoma"/>
              </a:rPr>
              <a:t>Donella Meado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5508720" y="6381720"/>
            <a:ext cx="1425600" cy="171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ffff"/>
                </a:solidFill>
                <a:latin typeface="Tahoma"/>
              </a:rPr>
              <a:t>Rozloha velkoplošných chráněných území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8" name="Picture 5" descr="axesgraph"/>
          <p:cNvPicPr/>
          <p:nvPr/>
        </p:nvPicPr>
        <p:blipFill>
          <a:blip r:embed="rId1"/>
          <a:stretch/>
        </p:blipFill>
        <p:spPr>
          <a:xfrm>
            <a:off x="539640" y="1565280"/>
            <a:ext cx="7561440" cy="529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2327" dur="indefinite" restart="never" nodeType="tmRoot">
          <p:childTnLst>
            <p:seq>
              <p:cTn id="2328" dur="indefinite" nodeType="mainSeq">
                <p:childTnLst>
                  <p:par>
                    <p:cTn id="2329" nodeType="clickEffect" fill="hold">
                      <p:stCondLst>
                        <p:cond delay="indefinite"/>
                      </p:stCondLst>
                      <p:childTnLst>
                        <p:par>
                          <p:cTn id="2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ffff"/>
                </a:solidFill>
                <a:latin typeface="Tahoma"/>
              </a:rPr>
              <a:t>% ohrožených druhů ze známých druhů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31" name="Picture 5" descr="axesgraph"/>
          <p:cNvPicPr/>
          <p:nvPr/>
        </p:nvPicPr>
        <p:blipFill>
          <a:blip r:embed="rId1"/>
          <a:stretch/>
        </p:blipFill>
        <p:spPr>
          <a:xfrm>
            <a:off x="539640" y="1619280"/>
            <a:ext cx="8137800" cy="523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randomBar dir="horz"/>
  </p:transition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ffff"/>
                </a:solidFill>
                <a:latin typeface="Tahoma"/>
              </a:rPr>
              <a:t>Výdaje na ochranu životního prostředí ČR celkem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34" name="Picture 5" descr="axesgraph"/>
          <p:cNvPicPr/>
          <p:nvPr/>
        </p:nvPicPr>
        <p:blipFill>
          <a:blip r:embed="rId1"/>
          <a:stretch/>
        </p:blipFill>
        <p:spPr>
          <a:xfrm>
            <a:off x="0" y="1628640"/>
            <a:ext cx="7236000" cy="51991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35" name="Picture 7" descr="axeslegend"/>
          <p:cNvPicPr/>
          <p:nvPr/>
        </p:nvPicPr>
        <p:blipFill>
          <a:blip r:embed="rId2"/>
          <a:stretch/>
        </p:blipFill>
        <p:spPr>
          <a:xfrm>
            <a:off x="7236000" y="5396040"/>
            <a:ext cx="1908000" cy="1461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Vznik environmentální politiky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26744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Stockholmská konference</a:t>
            </a:r>
            <a:r>
              <a:rPr b="0" lang="cs-CZ" sz="2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Vznik programu OSN pro životní prostředí (UNEP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Deklarace o životním prostředí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Tahoma"/>
              </a:rPr>
              <a:t>1983 – ustanovena nezávislá </a:t>
            </a: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mezinárodní komise</a:t>
            </a:r>
            <a:r>
              <a:rPr b="0" lang="cs-CZ" sz="2800" spc="-1" strike="noStrike">
                <a:solidFill>
                  <a:srgbClr val="0000cc"/>
                </a:solidFill>
                <a:latin typeface="Tahoma"/>
              </a:rPr>
              <a:t> (G. Brundtlandová), která měla prozkoumat stav ŽP a navrhnout způsob dalšího rozvoje; zpráva „</a:t>
            </a:r>
            <a:r>
              <a:rPr b="1" lang="cs-CZ" sz="2800" spc="-1" strike="noStrike">
                <a:solidFill>
                  <a:srgbClr val="0000cc"/>
                </a:solidFill>
                <a:latin typeface="Tahoma"/>
              </a:rPr>
              <a:t>Naše společná budoucnost</a:t>
            </a:r>
            <a:r>
              <a:rPr b="0" lang="cs-CZ" sz="2800" spc="-1" strike="noStrike">
                <a:solidFill>
                  <a:srgbClr val="0000cc"/>
                </a:solidFill>
                <a:latin typeface="Tahoma"/>
              </a:rPr>
              <a:t>“ (Our Common Future) a navržený koncept TU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Tahoma"/>
              </a:rPr>
              <a:t>Konference OSN o životním prostředí (Summit Země)</a:t>
            </a: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solidFill>
            <a:srgbClr val="ccff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1992, Rio de Janeiro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Vycházela z koncepce TUR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Konkrétní dohody (např. o biodiversitě, o změnách klimatu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cc"/>
                </a:solidFill>
                <a:latin typeface="Tahoma"/>
              </a:rPr>
              <a:t>Agenda 21</a:t>
            </a: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 – zásady ekologické politiky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Na Summit Země navázala v 90. letech řada dalších summitů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Tahoma"/>
              </a:rPr>
              <a:t>Většina doporučení z Agendy 21 se neuskutečnila – konference ve Washingtonu v roce 1997 (Rio + 5)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1:10:57Z</dcterms:created>
  <dc:creator>Bouckova</dc:creator>
  <dc:description/>
  <dc:language>en-US</dc:language>
  <cp:lastModifiedBy>Maier Tomáš</cp:lastModifiedBy>
  <dcterms:modified xsi:type="dcterms:W3CDTF">2024-02-03T05:35:39Z</dcterms:modified>
  <cp:revision>123</cp:revision>
  <dc:subject/>
  <dc:title>Cvičení 8.</dc:title>
</cp:coreProperties>
</file>