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4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11.jpeg" ContentType="image/jpeg"/>
  <Override PartName="/ppt/media/image43.png" ContentType="image/png"/>
  <Override PartName="/ppt/media/image45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855-56E7-4E6D-9FBE-ED3CE9E3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2EA-9B86-461B-A2AB-B6666815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77F-48B3-4E66-8547-C0758A6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32D-B01C-4092-ADAD-D93AAF62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BFB-6D82-42B3-AE71-728A7C1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6EC-0643-4E81-A995-2279275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B51-E9E9-4C7B-A907-61258857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4E8-DCBD-4668-B4D4-5C8B772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CCB-DD10-41B6-8ADD-A2D52E6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0FA-5EFC-43A8-9EFC-4832A8CD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D8B-830F-4F5B-A5C8-5AAE258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4E4-70CB-4EEB-9B9D-65E130ED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BCE6-6220-4B49-9AE4-1BBB5C09E9F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4E2-E130-4D08-B2AA-6C4905CB47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cs.wikipedia.org/wiki/Reinhard_Heydrich" TargetMode="External"/><Relationship Id="rId2" Type="http://schemas.openxmlformats.org/officeDocument/2006/relationships/hyperlink" Target="http://cs.wikipedia.org/wiki/RSHA" TargetMode="External"/><Relationship Id="rId3" Type="http://schemas.openxmlformats.org/officeDocument/2006/relationships/hyperlink" Target="http://cs.wikipedia.org/wiki/Protektor&#225;t_&#268;echy_a_Morava" TargetMode="External"/><Relationship Id="rId4" Type="http://schemas.openxmlformats.org/officeDocument/2006/relationships/hyperlink" Target="http://cs.wikipedia.org/wiki/Adolf_Hitler" TargetMode="External"/><Relationship Id="rId5" Type="http://schemas.openxmlformats.org/officeDocument/2006/relationships/hyperlink" Target="http://cs.wikipedia.org/w/index.php?title=Wilhelm_Stuckart&amp;action=edit&amp;redlink=1" TargetMode="External"/><Relationship Id="rId6" Type="http://schemas.openxmlformats.org/officeDocument/2006/relationships/hyperlink" Target="http://cs.wikipedia.org/w/index.php?title=Erich_Neumann&amp;action=edit&amp;redlink=1" TargetMode="External"/><Relationship Id="rId7" Type="http://schemas.openxmlformats.org/officeDocument/2006/relationships/hyperlink" Target="http://cs.wikipedia.org/wiki/Roland_Freisler" TargetMode="External"/><Relationship Id="rId8" Type="http://schemas.openxmlformats.org/officeDocument/2006/relationships/hyperlink" Target="http://cs.wikipedia.org/wiki/Josef_B&#252;hler" TargetMode="External"/><Relationship Id="rId9" Type="http://schemas.openxmlformats.org/officeDocument/2006/relationships/hyperlink" Target="http://cs.wikipedia.org/wiki/Krakov" TargetMode="External"/><Relationship Id="rId10" Type="http://schemas.openxmlformats.org/officeDocument/2006/relationships/hyperlink" Target="http://cs.wikipedia.org/w/index.php?title=Martin_Luther_%28diplomat%29&amp;action=edit&amp;redlink=1" TargetMode="External"/><Relationship Id="rId11" Type="http://schemas.openxmlformats.org/officeDocument/2006/relationships/hyperlink" Target="http://cs.wikipedia.org/w/index.php?title=Gerhard_Klopfer&amp;action=edit&amp;redlink=1" TargetMode="External"/><Relationship Id="rId12" Type="http://schemas.openxmlformats.org/officeDocument/2006/relationships/hyperlink" Target="http://cs.wikipedia.org/wiki/N&#225;rodn&#283;_socialistick&#225;_n&#283;meck&#225;_d&#283;lnick&#225;_strana" TargetMode="External"/><Relationship Id="rId13" Type="http://schemas.openxmlformats.org/officeDocument/2006/relationships/hyperlink" Target="http://cs.wikipedia.org/w/index.php?title=Friedrich_Wilhelm_Kritzinger&amp;action=edit&amp;redlink=1" TargetMode="External"/><Relationship Id="rId14" Type="http://schemas.openxmlformats.org/officeDocument/2006/relationships/hyperlink" Target="http://cs.wikipedia.org/w/index.php?title=Otto_Hofmann&amp;action=edit&amp;redlink=1" TargetMode="External"/><Relationship Id="rId1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EC76-19CF-4470-B746-D26B71B5A4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spodářská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é filosofie a ide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5B5C-C063-43B2-8CA6-9597FF17F7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le legitimity m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okratické 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demokratické 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V&amp;uring;dce KLDR Kim &amp;Ccaron;ong-un"/>
          <p:cNvPicPr/>
          <p:nvPr/>
        </p:nvPicPr>
        <p:blipFill>
          <a:blip r:embed="rId1"/>
          <a:stretch/>
        </p:blipFill>
        <p:spPr>
          <a:xfrm>
            <a:off x="3429000" y="3638520"/>
            <a:ext cx="5715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F9A1-EED6-4A12-B2D3-307E638CA9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le legitimity m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boženství (od Bo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i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enzin_Gyatzo_foto_1"/>
          <p:cNvPicPr/>
          <p:nvPr/>
        </p:nvPicPr>
        <p:blipFill>
          <a:blip r:embed="rId1"/>
          <a:stretch/>
        </p:blipFill>
        <p:spPr>
          <a:xfrm>
            <a:off x="5435640" y="2781360"/>
            <a:ext cx="2933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6AB-F12F-432D-A064-4343D770F3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le počtu vládnoucích jedin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ligarc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Michail Chodorkowski"/>
          <p:cNvPicPr/>
          <p:nvPr/>
        </p:nvPicPr>
        <p:blipFill>
          <a:blip r:embed="rId1"/>
          <a:stretch/>
        </p:blipFill>
        <p:spPr>
          <a:xfrm>
            <a:off x="3203640" y="2276640"/>
            <a:ext cx="55245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5112-5241-44A4-8F9A-C6231277FA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výkonu státní m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aliz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centraloz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vlajka-ukrajina-800"/>
          <p:cNvPicPr/>
          <p:nvPr/>
        </p:nvPicPr>
        <p:blipFill>
          <a:blip r:embed="rId1"/>
          <a:stretch/>
        </p:blipFill>
        <p:spPr>
          <a:xfrm>
            <a:off x="3203640" y="2900520"/>
            <a:ext cx="59403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853D-C6FD-425E-9E9D-6E97DC209C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le uspořád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t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ed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ed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konfederace"/>
          <p:cNvPicPr/>
          <p:nvPr/>
        </p:nvPicPr>
        <p:blipFill>
          <a:blip r:embed="rId1"/>
          <a:stretch/>
        </p:blipFill>
        <p:spPr>
          <a:xfrm>
            <a:off x="5292720" y="3933720"/>
            <a:ext cx="2990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B368-1200-43C0-A8B4-E508972EBD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le ide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rodní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čanský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5003640" y="340524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1D88-EF0E-4A8A-8C34-AB5040EB08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ersonální a reálné u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lmar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sko-litev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ber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kousko-Uher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Královna Al&amp;zcaron;b&amp;ecaron;ta II. na fotografii z pátku"/>
          <p:cNvPicPr/>
          <p:nvPr/>
        </p:nvPicPr>
        <p:blipFill>
          <a:blip r:embed="rId1"/>
          <a:stretch/>
        </p:blipFill>
        <p:spPr>
          <a:xfrm>
            <a:off x="4427640" y="4121280"/>
            <a:ext cx="388296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6252-C9C2-4B20-BBEE-E060B0091EA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ča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tah jedince ke st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vo na ochr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vo na 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vo na veřejném životě včetně vo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252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A18D-E1F1-48EB-ACF7-1C77787FA8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ča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vinnost dodržování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acení d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ranná pov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ební pov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ane"/>
          <p:cNvPicPr/>
          <p:nvPr/>
        </p:nvPicPr>
        <p:blipFill>
          <a:blip r:embed="rId1"/>
          <a:stretch/>
        </p:blipFill>
        <p:spPr>
          <a:xfrm>
            <a:off x="4356000" y="3659040"/>
            <a:ext cx="4788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DA42-7C8E-48F3-89E5-39B0C8C230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bytí obča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us s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us sangu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žád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tráta obč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ce obč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zdom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s://encrypted-tbn2.gstatic.com/images?q=tbn:ANd9GcSE3omIvMWtTMCG0nLOgmQRYqyeGwMCspUdKVNlEjDh8q6DCdW3Ngz2I-Ni"/>
          <p:cNvPicPr/>
          <p:nvPr/>
        </p:nvPicPr>
        <p:blipFill>
          <a:blip r:embed="rId1"/>
          <a:stretch/>
        </p:blipFill>
        <p:spPr>
          <a:xfrm>
            <a:off x="5364000" y="3573360"/>
            <a:ext cx="2705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02CE-589A-4D03-90EE-DA6CABDB86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yvatel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áda – cen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plom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elka-a-sirka-ceske-republiky-mapa"/>
          <p:cNvPicPr/>
          <p:nvPr/>
        </p:nvPicPr>
        <p:blipFill>
          <a:blip r:embed="rId1"/>
          <a:stretch/>
        </p:blipFill>
        <p:spPr>
          <a:xfrm>
            <a:off x="0" y="3871800"/>
            <a:ext cx="4211640" cy="29862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svejk2"/>
          <p:cNvPicPr/>
          <p:nvPr/>
        </p:nvPicPr>
        <p:blipFill>
          <a:blip r:embed="rId2"/>
          <a:stretch/>
        </p:blipFill>
        <p:spPr>
          <a:xfrm>
            <a:off x="0" y="0"/>
            <a:ext cx="1763640" cy="1630440"/>
          </a:xfrm>
          <a:prstGeom prst="rect">
            <a:avLst/>
          </a:prstGeom>
          <a:ln w="0">
            <a:noFill/>
          </a:ln>
        </p:spPr>
      </p:pic>
      <p:pic>
        <p:nvPicPr>
          <p:cNvPr id="50" name="Obrázek 2" descr="Obsah obrázku osoba, země&#10;&#10;Popis byl vytvořen automaticky"/>
          <p:cNvPicPr/>
          <p:nvPr/>
        </p:nvPicPr>
        <p:blipFill>
          <a:blip r:embed="rId3"/>
          <a:stretch/>
        </p:blipFill>
        <p:spPr>
          <a:xfrm>
            <a:off x="5364000" y="14400"/>
            <a:ext cx="3780000" cy="2676240"/>
          </a:xfrm>
          <a:prstGeom prst="rect">
            <a:avLst/>
          </a:prstGeom>
          <a:ln w="0">
            <a:noFill/>
          </a:ln>
        </p:spPr>
      </p:pic>
      <p:pic>
        <p:nvPicPr>
          <p:cNvPr id="51" name="Obrázek 4" descr="Obsah obrázku osoba, sport, sportovní hra, exteriér&#10;&#10;Popis byl vytvořen automaticky"/>
          <p:cNvPicPr/>
          <p:nvPr/>
        </p:nvPicPr>
        <p:blipFill>
          <a:blip r:embed="rId4"/>
          <a:stretch/>
        </p:blipFill>
        <p:spPr>
          <a:xfrm>
            <a:off x="4086360" y="4183200"/>
            <a:ext cx="50576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410F-F258-47E4-A512-8E740F9DA8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okr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a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er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erik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kula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250px-Grand_Ayatollah_Ali_Khamenei%2C"/>
          <p:cNvPicPr/>
          <p:nvPr/>
        </p:nvPicPr>
        <p:blipFill>
          <a:blip r:embed="rId1"/>
          <a:stretch/>
        </p:blipFill>
        <p:spPr>
          <a:xfrm>
            <a:off x="5580000" y="1628640"/>
            <a:ext cx="23814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5B94-F4A7-4914-83D5-3A63424D0F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teokr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tá říše řím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s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vona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pon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Hirohito in dress uniform.jpg"/>
          <p:cNvPicPr/>
          <p:nvPr/>
        </p:nvPicPr>
        <p:blipFill>
          <a:blip r:embed="rId1"/>
          <a:stretch/>
        </p:blipFill>
        <p:spPr>
          <a:xfrm>
            <a:off x="5219640" y="1916280"/>
            <a:ext cx="19051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75EF-9E07-499C-BCFA-E3EDC5420A6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časnost a teokr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údská Ará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z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tik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F40-93CF-4262-8A81-DBD6E2CA97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deologie 19. 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er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ervat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FD5-7431-4211-AB5B-897950E9028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ber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v osvícenství – racionalismus, humanita, logika - rene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a zodpovědnost jednotlivc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voboda tvé pěsti končí na špičce mého no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proti anarch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http://upload.wikimedia.org/wikipedia/commons/7/7f/Friedrich_Hayek_portrait.jpg"/>
          <p:cNvPicPr/>
          <p:nvPr/>
        </p:nvPicPr>
        <p:blipFill>
          <a:blip r:embed="rId1"/>
          <a:stretch/>
        </p:blipFill>
        <p:spPr>
          <a:xfrm>
            <a:off x="6443640" y="4365720"/>
            <a:ext cx="16002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E31-E895-442D-AEA0-D190DD3506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nože liberal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 liber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eralismus v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oliber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ertarian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zervati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le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rod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ttp://upload.wikimedia.org/wikipedia/commons/b/b8/John_Locke.jpg"/>
          <p:cNvPicPr/>
          <p:nvPr/>
        </p:nvPicPr>
        <p:blipFill>
          <a:blip r:embed="rId1"/>
          <a:stretch/>
        </p:blipFill>
        <p:spPr>
          <a:xfrm>
            <a:off x="6300720" y="1413000"/>
            <a:ext cx="26859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6B89-6DB8-4575-9737-834EC55665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dstavite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hn Locke: Dvě pojednání o vládě, Esej o lidském roz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am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iedrich August von Hayek: Cesta do otro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garet Thatch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nald Ra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ttp://www.euroekonom.cz/foto/thatcherova.jpg"/>
          <p:cNvPicPr/>
          <p:nvPr/>
        </p:nvPicPr>
        <p:blipFill>
          <a:blip r:embed="rId1"/>
          <a:stretch/>
        </p:blipFill>
        <p:spPr>
          <a:xfrm>
            <a:off x="179280" y="115920"/>
            <a:ext cx="1051200" cy="126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ttp://lifeexaminations.files.wordpress.com/2010/11/jj-rousseau2.jpg"/>
          <p:cNvPicPr/>
          <p:nvPr/>
        </p:nvPicPr>
        <p:blipFill>
          <a:blip r:embed="rId2"/>
          <a:stretch/>
        </p:blipFill>
        <p:spPr>
          <a:xfrm>
            <a:off x="7115040" y="4581360"/>
            <a:ext cx="1928880" cy="2276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icture of Ronald Reagan in the U.S. Army Air Force."/>
          <p:cNvPicPr/>
          <p:nvPr/>
        </p:nvPicPr>
        <p:blipFill>
          <a:blip r:embed="rId3"/>
          <a:stretch/>
        </p:blipFill>
        <p:spPr>
          <a:xfrm>
            <a:off x="5003640" y="4719600"/>
            <a:ext cx="17114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ástupný symbol pro číslo snímku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1E9A-648A-41D6-92C8-BE6CA4A1CC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ázek 3" descr=""/>
          <p:cNvPicPr/>
          <p:nvPr/>
        </p:nvPicPr>
        <p:blipFill>
          <a:blip r:embed="rId1"/>
          <a:stretch/>
        </p:blipFill>
        <p:spPr>
          <a:xfrm>
            <a:off x="468360" y="522360"/>
            <a:ext cx="82184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DA25-37C7-4B15-A186-89393DDE0D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 – druž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sa (skupina) a tř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eb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atón, Aristot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ice heterogen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http://nd01.jxs.cz/985/362/8c753c35ee_2549008_o2.jpg"/>
          <p:cNvPicPr/>
          <p:nvPr/>
        </p:nvPicPr>
        <p:blipFill>
          <a:blip r:embed="rId1"/>
          <a:stretch/>
        </p:blipFill>
        <p:spPr>
          <a:xfrm>
            <a:off x="5940360" y="1413000"/>
            <a:ext cx="3000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E42-3C4F-458C-B603-03CBA54980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nože social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okrat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řesťan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rod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e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top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á l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F13-CD1C-4913-9507-D1BC5F3A19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uje násilí na svém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uský prezident Vladimír Putin p&amp;rcaron;i inspekci armády v &amp;ccaron;ervenci roku 2013. | na serveru Lidovky.cz | aktuální zprávy"/>
          <p:cNvPicPr/>
          <p:nvPr/>
        </p:nvPicPr>
        <p:blipFill>
          <a:blip r:embed="rId1"/>
          <a:stretch/>
        </p:blipFill>
        <p:spPr>
          <a:xfrm>
            <a:off x="0" y="4114800"/>
            <a:ext cx="438156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V2af8c7_MDF00316"/>
          <p:cNvPicPr/>
          <p:nvPr/>
        </p:nvPicPr>
        <p:blipFill>
          <a:blip r:embed="rId2"/>
          <a:stretch/>
        </p:blipFill>
        <p:spPr>
          <a:xfrm>
            <a:off x="4762440" y="3705120"/>
            <a:ext cx="43815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849-2691-4F26-B0D1-5EFF2609C4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dstavite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mmaso Campan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bert 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nri de Saint-S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el 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dřich E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http://upload.wikimedia.org/wikipedia/commons/4/46/Karl_Marx_Grave.jpg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3914-3845-4847-9DFB-D5ADDD4EAB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ervat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dice, soukromé vlastnictví, elita, r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kladatel Edmund Bu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méně heterogen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a pok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mítání revolu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ý st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 rovnostářství, demokracie je totiž vláda větš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http://upload.wikimedia.org/wikipedia/commons/c/cd/Burke-Edmund-LOC.jpg"/>
          <p:cNvPicPr/>
          <p:nvPr/>
        </p:nvPicPr>
        <p:blipFill>
          <a:blip r:embed="rId1"/>
          <a:stretch/>
        </p:blipFill>
        <p:spPr>
          <a:xfrm>
            <a:off x="7435800" y="189000"/>
            <a:ext cx="1505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43C2-BF2D-4B55-A1EE-126479BC013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nož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rit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cion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aj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lený konzervat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skální konservat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vencionalismus x Laissez f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kismus, Salazarismus, Perón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deliandiver.org/wp-content/uploads/2013/02/benedikt-xvi.jpg"/>
          <p:cNvPicPr/>
          <p:nvPr/>
        </p:nvPicPr>
        <p:blipFill>
          <a:blip r:embed="rId1"/>
          <a:stretch/>
        </p:blipFill>
        <p:spPr>
          <a:xfrm>
            <a:off x="5076720" y="1125360"/>
            <a:ext cx="40672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96C-CC90-43DF-969C-C94331C21C4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dstavite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dmund Bur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ger Scrou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çois René de Chateaubri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xis de Tocque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http://upload.wikimedia.org/wikipedia/commons/6/6e/Chateaubriand.jpg"/>
          <p:cNvPicPr/>
          <p:nvPr/>
        </p:nvPicPr>
        <p:blipFill>
          <a:blip r:embed="rId1"/>
          <a:stretch/>
        </p:blipFill>
        <p:spPr>
          <a:xfrm>
            <a:off x="6877080" y="4221000"/>
            <a:ext cx="18763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397-2BB6-434D-980B-F97F0DD00C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mu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dnoznačně vnímaný po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topičtí socialisté a francouz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x a Engels, třídní b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unis = spole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řížská komuna 18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Ř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KS v Evropě ve 20. le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1A19-36AD-4B31-B66F-E13A504346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ařížská komuna 18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dní garda nahradí policii a arm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ranění stávajícího státníh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ých orgánů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volených a sesaditelných úřed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sociálních opatření ve prospěch pracují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platné vyu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bytové polit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účast dělníků při vedení p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ení rovnoprávnosti ž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149B-2BAF-43FE-B443-F9EFAFCD4C6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mu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rx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ni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li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ock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o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komu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formismus (Bernste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rchokomu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řesťa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rodní komu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200px-Lenin-circa-1887"/>
          <p:cNvPicPr/>
          <p:nvPr/>
        </p:nvPicPr>
        <p:blipFill>
          <a:blip r:embed="rId1"/>
          <a:stretch/>
        </p:blipFill>
        <p:spPr>
          <a:xfrm>
            <a:off x="7093080" y="260280"/>
            <a:ext cx="1904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2AE-80E7-4FE7-86D2-E0933E69D3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vchoz a Kolch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kolchoz"/>
          <p:cNvPicPr/>
          <p:nvPr/>
        </p:nvPicPr>
        <p:blipFill>
          <a:blip r:embed="rId1"/>
          <a:stretch/>
        </p:blipFill>
        <p:spPr>
          <a:xfrm>
            <a:off x="3057480" y="1376280"/>
            <a:ext cx="30290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03F0-C94A-4351-9461-9D23F4C747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š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ritativní 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írá se o armá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ektiv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uje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fyzič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cionalist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zervati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220px-Benito_Mussolini_and_Adolf_Hitler"/>
          <p:cNvPicPr/>
          <p:nvPr/>
        </p:nvPicPr>
        <p:blipFill>
          <a:blip r:embed="rId1"/>
          <a:stretch/>
        </p:blipFill>
        <p:spPr>
          <a:xfrm>
            <a:off x="6877080" y="189000"/>
            <a:ext cx="2095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31D6-7BB7-4F90-9E8C-3E12027A82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š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al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paněl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ěme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Francisco-Franco-9300766-2-402"/>
          <p:cNvPicPr/>
          <p:nvPr/>
        </p:nvPicPr>
        <p:blipFill>
          <a:blip r:embed="rId1"/>
          <a:stretch/>
        </p:blipFill>
        <p:spPr>
          <a:xfrm>
            <a:off x="4067280" y="1557360"/>
            <a:ext cx="38289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7A8-4587-404A-81B1-2CC816E4E2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ulturnění pl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mestikace zvíř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trvalých sí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vlažovac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roduktivity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vládnoucí vrst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st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ratur01"/>
          <p:cNvPicPr/>
          <p:nvPr/>
        </p:nvPicPr>
        <p:blipFill>
          <a:blip r:embed="rId1"/>
          <a:stretch/>
        </p:blipFill>
        <p:spPr>
          <a:xfrm>
            <a:off x="5003640" y="1413000"/>
            <a:ext cx="4140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C235-6BD3-450D-A18C-4A812FD42C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erence ve Wann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S-Obergruppenführer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inhard Heydrich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šéf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SH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Hlavní úřad říšské bezpečnosti) a zastupující říšský protektor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tektorátu Čechy a Morav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z pověření vůdce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dolfa Hitler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konferenci předsed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átní tajemník Dr.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ilhelm Stuckart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tajemník Říšského ministerstva vnit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átní tajemník Dr.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rich Neuman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tajemník Úřadu zplnomocněnce za čtyřletý plá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átní tajemník Dr.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oland Freisle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tajemník Říšského ministerstva spravedlnost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átní tajemník Dr.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Josef Bühle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tajemník Úřadu Generálního gouvernementu v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Krakově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átní podtajemník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artin Luthe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podtajemník Ministerstva zahranič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S-Oberführer Dr.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Gerhard Klopfe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tajemník stranické kanceláře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NSDAP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inisterský ředitel Dr.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Friedrich Wilhelm Kritzinge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tajemník Říšského kancléřstv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S-Gruppenführer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tto Hofman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šéf Hlavního úřadu pro otázky rasy a osidlování (RuSH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S-Gruppenführer Heinrich Müller – šéf Gestapa, Hlavní úřad pro bezpečnost Říš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S-Obersturmbannführer Adolf Eichmann – ředitel Hlavního úřadu pro bezpečnost Říš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S-Oberführer Dr. Eberhard Schöngarth – velitel Bezpečnostní policie a Bezpečnostní služby (SD) v Krakově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S-Sturmbannführer Dr. Rudolf Lange – velitel Bezpečnostní policie a Bezpečnostní služby (SD) pro Lotyšsk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r. Alfred Mayer – tajemník Říšského ministerstva pro okupovaná východní územ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r. Georg Leibbrandt – tajemník Říšského ministerstva pro okupovaná východní územ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40CE-12AC-4945-A388-F6A3340A95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ror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storicky hodně star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rve užit u Jakobí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presivní tero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bverzivní tero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zinárodní tero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boženský tero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cionální tero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konomický tero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VOT231a72_Bin_Ladin"/>
          <p:cNvPicPr/>
          <p:nvPr/>
        </p:nvPicPr>
        <p:blipFill>
          <a:blip r:embed="rId1"/>
          <a:stretch/>
        </p:blipFill>
        <p:spPr>
          <a:xfrm>
            <a:off x="5435640" y="1125360"/>
            <a:ext cx="37083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8A16-2D26-453C-B4DA-4356103010A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derní pojetí demokr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s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klarace práv člověka a obč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.8.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por proti ú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20px-Le_Barbier_Dichiarazione_dei_diritti_dell%27uomo"/>
          <p:cNvPicPr/>
          <p:nvPr/>
        </p:nvPicPr>
        <p:blipFill>
          <a:blip r:embed="rId1"/>
          <a:stretch/>
        </p:blipFill>
        <p:spPr>
          <a:xfrm>
            <a:off x="6416640" y="1484280"/>
            <a:ext cx="2727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113C-E31E-4117-AF8E-E6290CAB01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eklarace práv člověka a obča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není zakázáno je povo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d nějaký čin neškodí společnosti, nelze ho zakaz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d není něco přikázáno zákonem, nelze to vymá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dé jsou od přirozenosti svobod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a rovnost přichází se sekulariz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hands"/>
          <p:cNvPicPr/>
          <p:nvPr/>
        </p:nvPicPr>
        <p:blipFill>
          <a:blip r:embed="rId1"/>
          <a:stretch/>
        </p:blipFill>
        <p:spPr>
          <a:xfrm>
            <a:off x="6588000" y="5156280"/>
            <a:ext cx="2556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CA20-9D5D-4A64-923B-3F0D488F83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ob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žaduje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ýká se vš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není 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vobodni_logo_1_color-crop-531x531"/>
          <p:cNvPicPr/>
          <p:nvPr/>
        </p:nvPicPr>
        <p:blipFill>
          <a:blip r:embed="rId1"/>
          <a:stretch/>
        </p:blipFill>
        <p:spPr>
          <a:xfrm>
            <a:off x="5435640" y="3149640"/>
            <a:ext cx="3708360" cy="370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Mén&amp;ecaron; státu"/>
          <p:cNvPicPr/>
          <p:nvPr/>
        </p:nvPicPr>
        <p:blipFill>
          <a:blip r:embed="rId2"/>
          <a:stretch/>
        </p:blipFill>
        <p:spPr>
          <a:xfrm>
            <a:off x="0" y="4481640"/>
            <a:ext cx="50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8B4-DFD1-46A2-B7C2-E6AACF49B4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ob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božen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je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romažď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ů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image_12"/>
          <p:cNvPicPr/>
          <p:nvPr/>
        </p:nvPicPr>
        <p:blipFill>
          <a:blip r:embed="rId1"/>
          <a:stretch/>
        </p:blipFill>
        <p:spPr>
          <a:xfrm>
            <a:off x="826920" y="4581360"/>
            <a:ext cx="71247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C7A-CEE0-4E3C-AE1D-61B33B9D62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lené t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50920" y="148428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počátků lidské civilizace ojedinělé pokusy o prosazování ohleduplnější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lom 18. a 19. století – T. Malthus: rozpor mezi geometricky rostoucí populací a aritmeticky rostoucí zemědělskou výrob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. století – první přírodní rezervace v Evropě, v 80. letech první národní park v USA (Yellowstone); hnutí ochránců zvíř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ek 20. století – objevuje se problematika čistoty ovzduší (objevují se pojmy kyselé deště, sm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ek 60. let – environmentální degrad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ek 70. let – zájem lidstva o ŽP – první konference a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selé deště, skleníkové ply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842-0420-4BFE-88FB-5766601E626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nutí Ga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íť ekologicky orientovaných jednotlivců a skupin s cílem udržitelného života na Zemi. Název hnutí vychází z řecké mythologie, kde Gaia je Bohyně (Matka). Koncem 60.let rozpracoval britský ekolog a filosof James Lovelock pod tímto názvem teorii chápající Zemi jako jeden „superorganismus“, kdy jakékoliv poškození nebo zničení jedné jeho části ovlivní celek. Tato teorii získala značnou podpotu ekologických hnutí a byla řadou z nich adoptová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2B6C-1F8A-45F0-94F3-C75D01265C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oluntary Human Extinction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zakladatele hnutí je považován Les U. Knight, vzniklo v r. 2000. Základní myšlenou je, že lidská rasa je pro tuto planetu škodlivá a že by bylo lépe, kdyby vyhyn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vrženci se dělí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ovolníky, kteří se dobrovolně odříkají plození dětí a tedy rozmnož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orovatele, kteří věří, že základní myšlenka je správná, ale nejdou cestou aktivní podpory vyhy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émy, jako je dobrovolná sebevražda, hnutí nepodporu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5440-DBBE-4B24-989A-CE1E6E0C41F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vale udržitelný rozvoj je takový způsob ekonomického a sociálního rozvoje, který uspokojuje potřeby přítomnosti, aniž by oslaboval  možnosti budoucích generací  naplňovat jejich vlastní potřeb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FE04-756B-47FC-B1A6-86F593C839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orie vzniku stá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boženská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listická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vní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tická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sychologické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trimoniální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Vlajka%20pou%C5%BE%C3%ADvan%C3%A1%20ve%20Svat%C3%A9%20%C5%99%C3%AD%C5%A1i%20%C5%99%C3%ADmsk%C3%A9%20%281400%E2%80%931806%29"/>
          <p:cNvPicPr/>
          <p:nvPr/>
        </p:nvPicPr>
        <p:blipFill>
          <a:blip r:embed="rId1"/>
          <a:stretch/>
        </p:blipFill>
        <p:spPr>
          <a:xfrm>
            <a:off x="4857840" y="40006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55A1-025C-4016-9A7D-F0D3B8DA46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lené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68 Římský k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72: Konference OSN o životním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jótský protokol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0" y="3986280"/>
            <a:ext cx="500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914-6FBB-46CD-BEB4-611EE4BBA1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publ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s pu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a státu v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ence parla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ence v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zákonodárná, výkonná a soud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akem je monarc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77D3-51DE-4353-9A35-E95D0528BD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publikové systé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ident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rezident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lamen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S, stát, území, region, kraj, okres o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4FB3-038F-4C61-BAEF-40DEC796DD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ezidentský 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má volba výkonných a zákonodárných orgá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ident předsedá vládě, jmenuje úřední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odpovědný zákonodárné 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ident nemůže rozpustit parl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C17A-8C99-4F51-A6B5-D948FD38DD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oprezidentský 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ident volen pří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menuje vlá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 musí získat důvěru parla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a subjekty exekutivy: Prezident a vláda s premié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28EE-4CF2-4A98-A63D-1933E2D2A2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arlamentní 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ou státu je prez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ější nepřímá vo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ident jmenuje vládu, ale schvaluje ji parl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BB35-C27A-400B-8B7B-CC928D528D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orie mezinárodních vzta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ore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de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er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ion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ofunkcion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eder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D736-189B-4389-B3FE-A40D9236C4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épo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straš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zpečnostní dilema – John He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arr, Morgent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3E56-290F-4179-84A8-1BFF9482AA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ber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mati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žná spolupráce mezi 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instit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nom vlády, ale i vnitrost. O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erální mezivládní přístup (Morawcz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AC0-5B40-49AD-81CA-3C60B7D501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mpa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ism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ism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dřazuje univerzální etická pravidla poli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ažuje etiku za výsledek politi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uží k vytvoření nového svě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uze odráží zavedenou pr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oluntaristický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možnost radikální změny aktem vů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eterministický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ředurčený) - realitu můžeme poznat, nikoli radikálně mě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ízký intelektuál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ízký diplomat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7896-194C-42CF-BDA3-A59BB64C39D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ávní t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riarchální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triarchální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emková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luvní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právního st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20px-Vestonicka_venuse_edit"/>
          <p:cNvPicPr/>
          <p:nvPr/>
        </p:nvPicPr>
        <p:blipFill>
          <a:blip r:embed="rId1"/>
          <a:stretch/>
        </p:blipFill>
        <p:spPr>
          <a:xfrm>
            <a:off x="6443640" y="1484280"/>
            <a:ext cx="2095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2444-6FA9-4338-A204-631EB01521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vropská inte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ion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ofunkcion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eder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konomické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istot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máš Akvin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yziokra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lozofové přírodní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6E4F-E37E-4DCB-86A6-CE1F1AA1762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konomické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i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yův zá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ěmecká historická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D5E2-8668-4572-AEDC-D043DB569DB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konomické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ginalis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oklas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kouská historická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titucion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ey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oklasická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cagská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BA4C-4CA1-41AA-B685-42E300D0C3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konomické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kola strany nabíd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93A4-BD44-4836-A2F9-73AF3D062E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1771-2C47-4DFD-9C2A-9175457809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bože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mon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yte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ote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obrázek"/>
          <p:cNvPicPr/>
          <p:nvPr/>
        </p:nvPicPr>
        <p:blipFill>
          <a:blip r:embed="rId1"/>
          <a:stretch/>
        </p:blipFill>
        <p:spPr>
          <a:xfrm>
            <a:off x="5076720" y="3141720"/>
            <a:ext cx="3171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8E1E-DBFE-4229-9C9B-E3023E9B29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áty dle hlavy stá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arc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pub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ttp://img2.wikia.nocookie.net/__cb20100827130509/starwars/cs/images/thumb/c/c5/Imper%C3%A1tor.jpg/226px-Imper%C3%A1tor.jpg"/>
          <p:cNvPicPr/>
          <p:nvPr/>
        </p:nvPicPr>
        <p:blipFill>
          <a:blip r:embed="rId1"/>
          <a:stretch/>
        </p:blipFill>
        <p:spPr>
          <a:xfrm>
            <a:off x="6300720" y="2060640"/>
            <a:ext cx="21528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152F-5FC1-42CC-8A04-62F2AB07CA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le suvere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rchované 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islé 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ad"/>
          <p:cNvPicPr/>
          <p:nvPr/>
        </p:nvPicPr>
        <p:blipFill>
          <a:blip r:embed="rId1"/>
          <a:stretch/>
        </p:blipFill>
        <p:spPr>
          <a:xfrm>
            <a:off x="3419640" y="2851200"/>
            <a:ext cx="57243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1:28:55Z</dcterms:created>
  <dc:creator>maiert</dc:creator>
  <dc:description/>
  <dc:language>en-US</dc:language>
  <cp:lastModifiedBy>Maier Tomáš</cp:lastModifiedBy>
  <dcterms:modified xsi:type="dcterms:W3CDTF">2024-02-03T05:32:58Z</dcterms:modified>
  <cp:revision>77</cp:revision>
  <dc:subject/>
  <dc:title>Politologie I</dc:title>
</cp:coreProperties>
</file>